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31.jpeg" ContentType="image/jpeg"/>
  <Override PartName="/ppt/media/image33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B201-10FE-4972-8C75-19AC7F83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681-1CD7-4E08-97EF-FE54A7CF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768-D68C-44F7-922A-673D5093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689-6291-481D-95B0-4AC446CB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C5B-8CBA-44D7-8E1F-21690D42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74F-F9E5-4762-B687-5CD8F354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650-BEC0-4FB5-BA9A-22F1DFF5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FAD-8398-4642-8C54-CFF3C736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8E5-B3BA-47DF-8BFE-6DACF4D1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B00-5500-4E2B-809B-DB2C0022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CF2-25F8-476D-B6D5-36F504E0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145-61FA-4C2B-9061-19711B72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63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63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56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63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63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56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63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563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63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7563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63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7563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63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0999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8064-D6C5-4F8A-A3E2-C3C029A9E1B1}" type="slidenum">
              <a:rPr b="0" lang="en-US" sz="1200" spc="-1" strike="noStrike">
                <a:solidFill>
                  <a:srgbClr val="90999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63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637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756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637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637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756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637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7563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637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7563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637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7563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5637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7563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image" Target="../media/image27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2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Shap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3992400" y="1413000"/>
            <a:ext cx="50086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375637"/>
                </a:solidFill>
                <a:latin typeface="Book Antiqua"/>
              </a:rPr>
              <a:t>Презентация по инвестиционным проектам Городского округа Балашиха </a:t>
            </a:r>
            <a:endParaRPr b="0" lang="en-US" sz="43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42800" y="2166840"/>
            <a:ext cx="3652920" cy="2340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8"/>
          <p:cNvSpPr/>
          <p:nvPr/>
        </p:nvSpPr>
        <p:spPr>
          <a:xfrm>
            <a:off x="0" y="6448320"/>
            <a:ext cx="9144000" cy="4096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637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84" name="Rectangle 28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Shap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2400" y="417600"/>
            <a:ext cx="7213680" cy="109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ru-RU" sz="2400" spc="-1" strike="noStrike">
                <a:solidFill>
                  <a:srgbClr val="375637"/>
                </a:solidFill>
                <a:latin typeface="Book Antiqua"/>
                <a:ea typeface="Arial"/>
              </a:rPr>
              <a:t>ПАО «Криогенмаш»</a:t>
            </a:r>
            <a:endParaRPr b="0" lang="en-US" sz="2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12400" y="1062000"/>
            <a:ext cx="880596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637"/>
                </a:solidFill>
                <a:latin typeface="Book Antiqua"/>
                <a:ea typeface="Arial"/>
              </a:rPr>
              <a:t>Проект: «Лабораторно-стендовая база научно исследовательского </a:t>
            </a:r>
            <a:br>
              <a:rPr sz="1800"/>
            </a:br>
            <a:r>
              <a:rPr b="1" lang="ru-RU" sz="1800" spc="-1" strike="noStrike">
                <a:solidFill>
                  <a:srgbClr val="375637"/>
                </a:solidFill>
                <a:latin typeface="Book Antiqua"/>
                <a:ea typeface="Arial"/>
              </a:rPr>
              <a:t>и конструкторского института криогенного машиностроения»</a:t>
            </a:r>
            <a:endParaRPr b="0" lang="en-US" sz="18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212760" y="1658880"/>
            <a:ext cx="4359240" cy="41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Основано: в 1945 году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Цель проекта: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 Разработка и внедрение </a:t>
            </a:r>
            <a:br>
              <a:rPr sz="1400"/>
            </a:b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в производство импортозамещающих, а также инновационных инженерных решений </a:t>
            </a:r>
            <a:br>
              <a:rPr sz="1400"/>
            </a:b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по направлениям криогенная техника </a:t>
            </a:r>
            <a:br>
              <a:rPr sz="1400"/>
            </a:b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и технологии производства технических газов;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Социальная эффективность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: Будет создано около 1200 кв.м площадей на территории действующего предприятия по производству криогенной техники;</a:t>
            </a:r>
            <a:r>
              <a:rPr b="0" lang="en-US" sz="1400" spc="-1" strike="noStrike">
                <a:solidFill>
                  <a:srgbClr val="375637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Будет создано 40 рабочих мест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Финансирование проекта: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 проект полностью планируется реализовывать за счет привлечения кредитных средств банка «Газпромбанк» АО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Земельный участок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 в собственности </a:t>
            </a:r>
            <a:br>
              <a:rPr sz="1400"/>
            </a:b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ПАО «Криогенмаш»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179" name="Picture 13" descr="b208561b373f27139c6fd8af90ffdf90"/>
          <p:cNvPicPr/>
          <p:nvPr/>
        </p:nvPicPr>
        <p:blipFill>
          <a:blip r:embed="rId1"/>
          <a:stretch/>
        </p:blipFill>
        <p:spPr>
          <a:xfrm>
            <a:off x="4932360" y="1658880"/>
            <a:ext cx="3803760" cy="1982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302259"/>
          <p:cNvPicPr/>
          <p:nvPr/>
        </p:nvPicPr>
        <p:blipFill>
          <a:blip r:embed="rId2"/>
          <a:stretch/>
        </p:blipFill>
        <p:spPr>
          <a:xfrm>
            <a:off x="6894360" y="601560"/>
            <a:ext cx="2124360" cy="585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7" descr="302259"/>
          <p:cNvPicPr/>
          <p:nvPr/>
        </p:nvPicPr>
        <p:blipFill>
          <a:blip r:embed="rId3"/>
          <a:stretch/>
        </p:blipFill>
        <p:spPr>
          <a:xfrm>
            <a:off x="6894360" y="601560"/>
            <a:ext cx="2124360" cy="585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84" name="Rectangle 22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85" name="Rectangle 23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7"/>
          <a:stretch/>
        </p:blipFill>
        <p:spPr>
          <a:xfrm>
            <a:off x="0" y="316080"/>
            <a:ext cx="1295280" cy="847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6" descr="KG-2.jpg"/>
          <p:cNvPicPr/>
          <p:nvPr/>
        </p:nvPicPr>
        <p:blipFill>
          <a:blip r:embed="rId8"/>
          <a:stretch/>
        </p:blipFill>
        <p:spPr>
          <a:xfrm>
            <a:off x="4932360" y="3759120"/>
            <a:ext cx="3809880" cy="2063880"/>
          </a:xfrm>
          <a:prstGeom prst="rect">
            <a:avLst/>
          </a:prstGeom>
          <a:ln w="0">
            <a:noFill/>
          </a:ln>
        </p:spPr>
      </p:pic>
      <p:sp>
        <p:nvSpPr>
          <p:cNvPr id="188" name="Содержимое 10"/>
          <p:cNvSpPr/>
          <p:nvPr/>
        </p:nvSpPr>
        <p:spPr>
          <a:xfrm>
            <a:off x="152280" y="5918040"/>
            <a:ext cx="8686800" cy="55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89" name="TextShape 2"/>
          <p:cNvSpPr/>
          <p:nvPr/>
        </p:nvSpPr>
        <p:spPr>
          <a:xfrm>
            <a:off x="701028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Shap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09600" y="455760"/>
            <a:ext cx="7213680" cy="109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ru-RU" sz="2400" spc="-1" strike="noStrike">
                <a:solidFill>
                  <a:srgbClr val="375637"/>
                </a:solidFill>
                <a:latin typeface="Book Antiqua"/>
                <a:ea typeface="Arial"/>
              </a:rPr>
              <a:t>ПАО «Криогенмаш»</a:t>
            </a:r>
            <a:endParaRPr b="0" lang="en-US" sz="2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4120" y="1171440"/>
            <a:ext cx="847584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637"/>
                </a:solidFill>
                <a:latin typeface="Book Antiqua"/>
                <a:ea typeface="Arial"/>
              </a:rPr>
              <a:t>Проект: «Лабораторно-стендовая база научно-исследовательского </a:t>
            </a:r>
            <a:br>
              <a:rPr sz="1800"/>
            </a:br>
            <a:r>
              <a:rPr b="1" lang="ru-RU" sz="1800" spc="-1" strike="noStrike">
                <a:solidFill>
                  <a:srgbClr val="375637"/>
                </a:solidFill>
                <a:latin typeface="Book Antiqua"/>
                <a:ea typeface="Arial"/>
              </a:rPr>
              <a:t>и конструкторского института криогенного машиностроения»</a:t>
            </a:r>
            <a:endParaRPr b="0" lang="en-US" sz="18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93" name="TextBox 11"/>
          <p:cNvSpPr/>
          <p:nvPr/>
        </p:nvSpPr>
        <p:spPr>
          <a:xfrm>
            <a:off x="111240" y="1757520"/>
            <a:ext cx="85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Планируемый объем инвестиций – </a:t>
            </a: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398 млн. руб.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Сроки реализации: 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сентябрь 2015 – декабрь 2017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384120" y="2341440"/>
            <a:ext cx="8475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Текущий статус реализации проекта: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5637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Разработана проектная документация;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Проект защищен на инвестиционном комитете ОМЗ (Объединенные машиностроительные заводы);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Получено положительное заключение экспертизы проекта;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Получено разрешение на строительство;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Выбрана Генеральная подрядная организация;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Заключен договор на комплексную поставку основного технологического оборудования;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В процессе заключения договор на поставку кранового оборудования;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Выставлено ограждение;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Начата копка котлована.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Освоено: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 35 млн. руб.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Планируемый объём налоговых отчислений: 46 млн. руб.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195" name="Picture 18" descr="302259"/>
          <p:cNvPicPr/>
          <p:nvPr/>
        </p:nvPicPr>
        <p:blipFill>
          <a:blip r:embed="rId1"/>
          <a:stretch/>
        </p:blipFill>
        <p:spPr>
          <a:xfrm>
            <a:off x="7054920" y="692280"/>
            <a:ext cx="1917720" cy="603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9"/>
          <p:cNvSpPr/>
          <p:nvPr/>
        </p:nvSpPr>
        <p:spPr>
          <a:xfrm>
            <a:off x="0" y="6543720"/>
            <a:ext cx="9144000" cy="314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4"/>
          <a:stretch/>
        </p:blipFill>
        <p:spPr>
          <a:xfrm>
            <a:off x="0" y="344520"/>
            <a:ext cx="1295280" cy="847800"/>
          </a:xfrm>
          <a:prstGeom prst="rect">
            <a:avLst/>
          </a:prstGeom>
          <a:ln w="0">
            <a:noFill/>
          </a:ln>
        </p:spPr>
      </p:pic>
      <p:sp>
        <p:nvSpPr>
          <p:cNvPr id="200" name="Содержимое 10"/>
          <p:cNvSpPr/>
          <p:nvPr/>
        </p:nvSpPr>
        <p:spPr>
          <a:xfrm>
            <a:off x="152280" y="5918040"/>
            <a:ext cx="8686800" cy="55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01" name="TextShape 2"/>
          <p:cNvSpPr/>
          <p:nvPr/>
        </p:nvSpPr>
        <p:spPr>
          <a:xfrm>
            <a:off x="701028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5096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5637"/>
                </a:solidFill>
                <a:latin typeface="Arial"/>
              </a:rPr>
              <a:t>ООО «Лукес-Д»</a:t>
            </a:r>
            <a:endParaRPr b="0" lang="en-US" sz="36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9040" y="1907640"/>
            <a:ext cx="8267760" cy="16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Calibri"/>
              </a:rPr>
              <a:t>Деятельность:</a:t>
            </a:r>
            <a:r>
              <a:rPr b="0" lang="ru-RU" sz="1600" spc="-1" strike="noStrike">
                <a:solidFill>
                  <a:srgbClr val="375637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Calibri"/>
              </a:rPr>
              <a:t>Компания «Лукес-Д» является основателем мясного бренда «ФЕРМАЧ». Компания занимается производством и переработкой мяса. На данный момент </a:t>
            </a:r>
            <a:br>
              <a:rPr sz="1600"/>
            </a:br>
            <a:r>
              <a:rPr b="0" lang="ru-RU" sz="1600" spc="-1" strike="noStrike">
                <a:solidFill>
                  <a:srgbClr val="375637"/>
                </a:solidFill>
                <a:latin typeface="Calibri"/>
              </a:rPr>
              <a:t>под торговой маркой «ФЕРМАЧ» уже открыто 12 розничных магазинов </a:t>
            </a:r>
            <a:br>
              <a:rPr sz="1600"/>
            </a:br>
            <a:r>
              <a:rPr b="0" lang="ru-RU" sz="1600" spc="-1" strike="noStrike">
                <a:solidFill>
                  <a:srgbClr val="375637"/>
                </a:solidFill>
                <a:latin typeface="Calibri"/>
              </a:rPr>
              <a:t>по продаже охлажденного мяса, мясных полуфабрикатов, колбасных изделий </a:t>
            </a:r>
            <a:br>
              <a:rPr sz="1600"/>
            </a:br>
            <a:r>
              <a:rPr b="0" lang="ru-RU" sz="1600" spc="-1" strike="noStrike">
                <a:solidFill>
                  <a:srgbClr val="375637"/>
                </a:solidFill>
                <a:latin typeface="Calibri"/>
              </a:rPr>
              <a:t>и других экологически чистых фермерских товаров. Продукция компании </a:t>
            </a:r>
            <a:br>
              <a:rPr sz="1600"/>
            </a:br>
            <a:r>
              <a:rPr b="0" lang="ru-RU" sz="1600" spc="-1" strike="noStrike">
                <a:solidFill>
                  <a:srgbClr val="375637"/>
                </a:solidFill>
                <a:latin typeface="Calibri"/>
              </a:rPr>
              <a:t>не содержит сои, ГМО и прочих добавок и поступает в магазины ежедневно. </a:t>
            </a:r>
            <a:endParaRPr b="0" lang="en-US" sz="16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46120" y="1322280"/>
            <a:ext cx="8061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5637"/>
                </a:solidFill>
                <a:latin typeface="Arial"/>
              </a:rPr>
              <a:t>Проект: «Производственное здание для производства полуфабрикатов, колбасных изделий и деликатесов»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5076720" y="3505320"/>
            <a:ext cx="3314880" cy="2182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1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3"/>
          <a:stretch/>
        </p:blipFill>
        <p:spPr>
          <a:xfrm>
            <a:off x="0" y="344520"/>
            <a:ext cx="1295280" cy="847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fermach"/>
          <p:cNvPicPr/>
          <p:nvPr/>
        </p:nvPicPr>
        <p:blipFill>
          <a:blip r:embed="rId4"/>
          <a:stretch/>
        </p:blipFill>
        <p:spPr>
          <a:xfrm>
            <a:off x="7648560" y="185760"/>
            <a:ext cx="1244520" cy="1162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7a5d70c7abcc63afdf87223c6b3f7464"/>
          <p:cNvPicPr/>
          <p:nvPr/>
        </p:nvPicPr>
        <p:blipFill>
          <a:blip r:embed="rId5"/>
          <a:stretch/>
        </p:blipFill>
        <p:spPr>
          <a:xfrm>
            <a:off x="698400" y="3462480"/>
            <a:ext cx="3432240" cy="2171520"/>
          </a:xfrm>
          <a:prstGeom prst="rect">
            <a:avLst/>
          </a:prstGeom>
          <a:ln w="0">
            <a:noFill/>
          </a:ln>
        </p:spPr>
      </p:pic>
      <p:sp>
        <p:nvSpPr>
          <p:cNvPr id="211" name="Содержимое 10"/>
          <p:cNvSpPr/>
          <p:nvPr/>
        </p:nvSpPr>
        <p:spPr>
          <a:xfrm>
            <a:off x="195120" y="5848200"/>
            <a:ext cx="8686800" cy="54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Основано в 1946 году</a:t>
            </a:r>
            <a:endParaRPr b="0" lang="en-US" sz="20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12" name="Прямоугольник 14"/>
          <p:cNvSpPr/>
          <p:nvPr/>
        </p:nvSpPr>
        <p:spPr>
          <a:xfrm>
            <a:off x="2011320" y="5815080"/>
            <a:ext cx="6773760" cy="630000"/>
          </a:xfrm>
          <a:prstGeom prst="rect">
            <a:avLst/>
          </a:prstGeom>
          <a:solidFill>
            <a:srgbClr val="c1dbe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algn="just">
              <a:lnSpc>
                <a:spcPct val="100000"/>
              </a:lnSpc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Оказание содействия в решении вопроса технологического присоединения к газораспределительной сети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13" name="Пятиугольник 15"/>
          <p:cNvSpPr/>
          <p:nvPr/>
        </p:nvSpPr>
        <p:spPr>
          <a:xfrm>
            <a:off x="339840" y="5815080"/>
            <a:ext cx="2081160" cy="63000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630000"/>
              <a:gd name="textAreaBottom" fmla="*/ 630360 h 63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0" y="0"/>
                </a:lnTo>
                <a:lnTo>
                  <a:pt x="21600" y="10800"/>
                </a:lnTo>
                <a:lnTo>
                  <a:pt x="183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казанное содействие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14" name="TextShape 2"/>
          <p:cNvSpPr/>
          <p:nvPr/>
        </p:nvSpPr>
        <p:spPr>
          <a:xfrm>
            <a:off x="701028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5637"/>
                </a:solidFill>
                <a:latin typeface="Arial"/>
              </a:rPr>
              <a:t>ООО «Лукес-Д»</a:t>
            </a:r>
            <a:endParaRPr b="0" lang="en-US" sz="36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5320" y="1798200"/>
            <a:ext cx="3762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Calibri"/>
              </a:rPr>
              <a:t>Статус:</a:t>
            </a:r>
            <a:r>
              <a:rPr b="0" lang="ru-RU" sz="1400" spc="-1" strike="noStrike">
                <a:solidFill>
                  <a:srgbClr val="375637"/>
                </a:solidFill>
                <a:latin typeface="Calibri"/>
              </a:rPr>
              <a:t> реализуемый проект;</a:t>
            </a:r>
            <a:endParaRPr b="0" lang="en-US" sz="14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Calibri"/>
              </a:rPr>
              <a:t>Земельный участок:</a:t>
            </a:r>
            <a:r>
              <a:rPr b="0" lang="ru-RU" sz="1400" spc="-1" strike="noStrike">
                <a:solidFill>
                  <a:srgbClr val="375637"/>
                </a:solidFill>
                <a:latin typeface="Calibri"/>
              </a:rPr>
              <a:t> 12 967 кв. м.; </a:t>
            </a:r>
            <a:endParaRPr b="0" lang="en-US" sz="14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Calibri"/>
              </a:rPr>
              <a:t>Вид права:</a:t>
            </a:r>
            <a:r>
              <a:rPr b="0" lang="ru-RU" sz="1400" spc="-1" strike="noStrike">
                <a:solidFill>
                  <a:srgbClr val="375637"/>
                </a:solidFill>
                <a:latin typeface="Calibri"/>
              </a:rPr>
              <a:t> собственность;</a:t>
            </a:r>
            <a:endParaRPr b="0" lang="en-US" sz="14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Calibri"/>
              </a:rPr>
              <a:t>Объем инвестиций:</a:t>
            </a:r>
            <a:r>
              <a:rPr b="0" lang="ru-RU" sz="1400" spc="-1" strike="noStrike">
                <a:solidFill>
                  <a:srgbClr val="375637"/>
                </a:solidFill>
                <a:latin typeface="Calibri"/>
              </a:rPr>
              <a:t> более 380 млн. руб.;</a:t>
            </a:r>
            <a:endParaRPr b="0" lang="en-US" sz="14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Calibri"/>
              </a:rPr>
              <a:t>Срок реализации:</a:t>
            </a:r>
            <a:r>
              <a:rPr b="0" lang="ru-RU" sz="1400" spc="-1" strike="noStrike">
                <a:solidFill>
                  <a:srgbClr val="375637"/>
                </a:solidFill>
                <a:latin typeface="Calibri"/>
              </a:rPr>
              <a:t> 2015 – 2016;</a:t>
            </a:r>
            <a:endParaRPr b="0" lang="en-US" sz="14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Calibri"/>
              </a:rPr>
              <a:t>Социальная эффективность:</a:t>
            </a:r>
            <a:r>
              <a:rPr b="0" lang="ru-RU" sz="1400" spc="-1" strike="noStrike">
                <a:solidFill>
                  <a:srgbClr val="375637"/>
                </a:solidFill>
                <a:latin typeface="Calibri"/>
              </a:rPr>
              <a:t> будет</a:t>
            </a:r>
            <a:endParaRPr b="0" lang="en-US" sz="14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Calibri"/>
              </a:rPr>
              <a:t>создано 150 новых рабочих мест;</a:t>
            </a:r>
            <a:endParaRPr b="0" lang="en-US" sz="1400" spc="-1" strike="noStrike">
              <a:solidFill>
                <a:srgbClr val="375637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75637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Calibri"/>
              </a:rPr>
              <a:t>Объем прироста готовой продукции</a:t>
            </a:r>
            <a:r>
              <a:rPr b="0" lang="ru-RU" sz="1400" spc="-1" strike="noStrike">
                <a:solidFill>
                  <a:srgbClr val="375637"/>
                </a:solidFill>
                <a:latin typeface="Calibri"/>
              </a:rPr>
              <a:t>, </a:t>
            </a:r>
            <a:endParaRPr b="0" lang="en-US" sz="1400" spc="-1" strike="noStrike">
              <a:solidFill>
                <a:srgbClr val="375637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Calibri"/>
              </a:rPr>
              <a:t>в</a:t>
            </a:r>
            <a:r>
              <a:rPr b="0" lang="en-US" sz="1400" spc="-1" strike="noStrike">
                <a:solidFill>
                  <a:srgbClr val="375637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375637"/>
                </a:solidFill>
                <a:latin typeface="Calibri"/>
              </a:rPr>
              <a:t>год – более 19 000 тонн;</a:t>
            </a:r>
            <a:endParaRPr b="0" lang="en-US" sz="14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Calibri"/>
              </a:rPr>
              <a:t>Срок окупаемости проекта:</a:t>
            </a:r>
            <a:r>
              <a:rPr b="0" lang="ru-RU" sz="1400" spc="-1" strike="noStrike">
                <a:solidFill>
                  <a:srgbClr val="375637"/>
                </a:solidFill>
                <a:latin typeface="Calibri"/>
              </a:rPr>
              <a:t> 5 лет;</a:t>
            </a:r>
            <a:endParaRPr b="0" lang="en-US" sz="14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Calibri"/>
              </a:rPr>
              <a:t>Финансирование проекта:</a:t>
            </a:r>
            <a:r>
              <a:rPr b="0" lang="ru-RU" sz="1400" spc="-1" strike="noStrike">
                <a:solidFill>
                  <a:srgbClr val="375637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5637"/>
                </a:solidFill>
                <a:latin typeface="Calibri"/>
              </a:rPr>
              <a:t>c</a:t>
            </a:r>
            <a:r>
              <a:rPr b="0" lang="ru-RU" sz="1400" spc="-1" strike="noStrike">
                <a:solidFill>
                  <a:srgbClr val="375637"/>
                </a:solidFill>
                <a:latin typeface="Calibri"/>
              </a:rPr>
              <a:t>обственные</a:t>
            </a:r>
            <a:r>
              <a:rPr b="0" lang="en-US" sz="1400" spc="-1" strike="noStrike">
                <a:solidFill>
                  <a:srgbClr val="375637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375637"/>
                </a:solidFill>
                <a:latin typeface="Calibri"/>
              </a:rPr>
              <a:t>средства ООО «Лукес-Д»;</a:t>
            </a:r>
            <a:endParaRPr b="0" lang="en-US" sz="14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Calibri"/>
              </a:rPr>
              <a:t>Планируемый объем налоговых отчислений</a:t>
            </a:r>
            <a:r>
              <a:rPr b="0" lang="ru-RU" sz="1400" spc="-1" strike="noStrike">
                <a:solidFill>
                  <a:srgbClr val="375637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375637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Calibri"/>
              </a:rPr>
              <a:t>41,9 млн. руб.</a:t>
            </a:r>
            <a:endParaRPr b="0" lang="en-US" sz="1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55680" y="1157400"/>
            <a:ext cx="82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5637"/>
                </a:solidFill>
                <a:latin typeface="Arial"/>
              </a:rPr>
              <a:t>Проект: «Производственное здание для производства полуфабрикатов, колбасных изделий и деликатесов»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118040" y="1798560"/>
            <a:ext cx="4626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75637"/>
                </a:solidFill>
                <a:latin typeface="Arial"/>
              </a:rPr>
              <a:t>Этапы реализации:</a:t>
            </a:r>
            <a:r>
              <a:rPr b="0" lang="en-US" sz="1400" spc="-1" strike="noStrike">
                <a:solidFill>
                  <a:srgbClr val="375637"/>
                </a:solidFill>
                <a:latin typeface="Arial"/>
              </a:rPr>
              <a:t> введено в эксплуатацию около 1250 кв.м новых производственных площадей,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5637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75637"/>
                </a:solidFill>
                <a:latin typeface="Arial"/>
              </a:rPr>
              <a:t>в настоящее время ведутся работы по оснащению оборудованием производства,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5637"/>
                </a:solidFill>
                <a:latin typeface="Arial"/>
              </a:rPr>
              <a:t>- планируется реконструкция и модернизация более 2000 кв.м уже имеющихся производственных площадей – 3-4 квартал 2016, ведутся подготовительные работы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219" name="Picture 6" descr="1c82de1e2dcd20dd470416441ee0b9f6"/>
          <p:cNvPicPr/>
          <p:nvPr/>
        </p:nvPicPr>
        <p:blipFill>
          <a:blip r:embed="rId1"/>
          <a:stretch/>
        </p:blipFill>
        <p:spPr>
          <a:xfrm>
            <a:off x="4572000" y="3830760"/>
            <a:ext cx="3486240" cy="20174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1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0" y="344520"/>
            <a:ext cx="1295280" cy="84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fermach"/>
          <p:cNvPicPr/>
          <p:nvPr/>
        </p:nvPicPr>
        <p:blipFill>
          <a:blip r:embed="rId4"/>
          <a:stretch/>
        </p:blipFill>
        <p:spPr>
          <a:xfrm>
            <a:off x="7781760" y="157320"/>
            <a:ext cx="1244880" cy="1161720"/>
          </a:xfrm>
          <a:prstGeom prst="rect">
            <a:avLst/>
          </a:prstGeom>
          <a:ln w="0">
            <a:noFill/>
          </a:ln>
        </p:spPr>
      </p:pic>
      <p:sp>
        <p:nvSpPr>
          <p:cNvPr id="224" name="Содержимое 10"/>
          <p:cNvSpPr/>
          <p:nvPr/>
        </p:nvSpPr>
        <p:spPr>
          <a:xfrm>
            <a:off x="195120" y="5923080"/>
            <a:ext cx="86868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Основано в 1946 году</a:t>
            </a:r>
            <a:endParaRPr b="0" lang="en-US" sz="20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25" name="Прямоугольник 12"/>
          <p:cNvSpPr/>
          <p:nvPr/>
        </p:nvSpPr>
        <p:spPr>
          <a:xfrm>
            <a:off x="2011320" y="5891040"/>
            <a:ext cx="6675480" cy="630360"/>
          </a:xfrm>
          <a:prstGeom prst="rect">
            <a:avLst/>
          </a:prstGeom>
          <a:solidFill>
            <a:srgbClr val="c1dbe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algn="just">
              <a:lnSpc>
                <a:spcPct val="100000"/>
              </a:lnSpc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Оказание содействия в решении вопроса технологического присоединения к газораспределительной сети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26" name="Пятиугольник 13"/>
          <p:cNvSpPr/>
          <p:nvPr/>
        </p:nvSpPr>
        <p:spPr>
          <a:xfrm>
            <a:off x="457200" y="5891040"/>
            <a:ext cx="1963800" cy="63036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34" y="0"/>
                </a:lnTo>
                <a:lnTo>
                  <a:pt x="21600" y="10800"/>
                </a:lnTo>
                <a:lnTo>
                  <a:pt x="181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казанное содействие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27" name="TextShape 2"/>
          <p:cNvSpPr/>
          <p:nvPr/>
        </p:nvSpPr>
        <p:spPr>
          <a:xfrm>
            <a:off x="701028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Shap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11120" y="568440"/>
            <a:ext cx="6075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ru-RU" sz="3600" spc="-1" strike="noStrike">
                <a:solidFill>
                  <a:srgbClr val="375637"/>
                </a:solidFill>
                <a:latin typeface="Book Antiqua"/>
                <a:ea typeface="Arial"/>
              </a:rPr>
              <a:t> </a:t>
            </a:r>
            <a:r>
              <a:rPr b="1" lang="ru-RU" sz="3600" spc="-1" strike="noStrike">
                <a:solidFill>
                  <a:srgbClr val="375637"/>
                </a:solidFill>
                <a:latin typeface="Book Antiqua"/>
                <a:ea typeface="Arial"/>
              </a:rPr>
              <a:t>ООО «НПП СК МОСТ»</a:t>
            </a:r>
            <a:endParaRPr b="0" lang="en-US" sz="36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95200" y="1144080"/>
            <a:ext cx="88488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ts val="16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Проект:  «Организация производства буров по бетону»</a:t>
            </a:r>
            <a:endParaRPr b="0" lang="en-US" sz="20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579600" y="1879560"/>
            <a:ext cx="795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637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32" name="TextBox 11"/>
          <p:cNvSpPr/>
          <p:nvPr/>
        </p:nvSpPr>
        <p:spPr>
          <a:xfrm>
            <a:off x="457200" y="1533600"/>
            <a:ext cx="4087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DejaVu Sans"/>
              </a:rPr>
              <a:t>Основано: </a:t>
            </a: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1993 год 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О предприятии: ООО 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«</a:t>
            </a: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НПП СК МОСТ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»</a:t>
            </a: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 успешно занимается внедрением </a:t>
            </a:r>
            <a:br>
              <a:rPr sz="1400"/>
            </a:b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и производством инновационных материалов и технологий в области транспортного строительства (реконструкция и строительство мостов)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DejaVu Sans"/>
              </a:rPr>
              <a:t>Местонахождение:</a:t>
            </a: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 143914, Московская область, г. Балашиха, 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мкр. Никольско-Архангельский, ул. 8-я линия, владение 10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33" name="TextBox 15"/>
          <p:cNvSpPr/>
          <p:nvPr/>
        </p:nvSpPr>
        <p:spPr>
          <a:xfrm>
            <a:off x="5288040" y="1774800"/>
            <a:ext cx="3698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DejaVu Sans"/>
              </a:rPr>
              <a:t>ООО </a:t>
            </a: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375637"/>
                </a:solidFill>
                <a:latin typeface="DejaVu Sans"/>
              </a:rPr>
              <a:t>НПП СК МОСТ</a:t>
            </a: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»</a:t>
            </a:r>
            <a:r>
              <a:rPr b="1" lang="ru-RU" sz="1400" spc="-1" strike="noStrike">
                <a:solidFill>
                  <a:srgbClr val="375637"/>
                </a:solidFill>
                <a:latin typeface="DejaVu Sans"/>
              </a:rPr>
              <a:t> обладает собственной научно-производственной базой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 </a:t>
            </a: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Земельный участок 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–</a:t>
            </a: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 18700 кв.м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5637"/>
              </a:buClr>
              <a:buFont typeface="DejaVu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 </a:t>
            </a: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Административное здание 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–</a:t>
            </a: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 884,4 кв.м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5637"/>
              </a:buClr>
              <a:buFont typeface="DejaVu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 </a:t>
            </a: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Производственный цех 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–</a:t>
            </a: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 1806 кв.м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35" name="Rectangle 22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0" y="344520"/>
            <a:ext cx="1295280" cy="847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4" descr="thumbnail"/>
          <p:cNvPicPr/>
          <p:nvPr/>
        </p:nvPicPr>
        <p:blipFill>
          <a:blip r:embed="rId3"/>
          <a:stretch/>
        </p:blipFill>
        <p:spPr>
          <a:xfrm>
            <a:off x="8035920" y="314280"/>
            <a:ext cx="1108080" cy="895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DSCN1839"/>
          <p:cNvPicPr/>
          <p:nvPr/>
        </p:nvPicPr>
        <p:blipFill>
          <a:blip r:embed="rId4"/>
          <a:stretch/>
        </p:blipFill>
        <p:spPr>
          <a:xfrm>
            <a:off x="457200" y="3780000"/>
            <a:ext cx="3419640" cy="2095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" descr="IMG_0310"/>
          <p:cNvPicPr/>
          <p:nvPr/>
        </p:nvPicPr>
        <p:blipFill>
          <a:blip r:embed="rId5"/>
          <a:stretch/>
        </p:blipFill>
        <p:spPr>
          <a:xfrm>
            <a:off x="5292720" y="3322800"/>
            <a:ext cx="3394080" cy="2552400"/>
          </a:xfrm>
          <a:prstGeom prst="rect">
            <a:avLst/>
          </a:prstGeom>
          <a:ln w="0">
            <a:noFill/>
          </a:ln>
        </p:spPr>
      </p:pic>
      <p:sp>
        <p:nvSpPr>
          <p:cNvPr id="240" name="Содержимое 10"/>
          <p:cNvSpPr/>
          <p:nvPr/>
        </p:nvSpPr>
        <p:spPr>
          <a:xfrm>
            <a:off x="195120" y="5945040"/>
            <a:ext cx="8686800" cy="54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Основано в 1946 году</a:t>
            </a:r>
            <a:endParaRPr b="0" lang="en-US" sz="20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41" name="Прямоугольник 15"/>
          <p:cNvSpPr/>
          <p:nvPr/>
        </p:nvSpPr>
        <p:spPr>
          <a:xfrm>
            <a:off x="2011320" y="5911920"/>
            <a:ext cx="6675480" cy="630000"/>
          </a:xfrm>
          <a:prstGeom prst="rect">
            <a:avLst/>
          </a:prstGeom>
          <a:solidFill>
            <a:srgbClr val="c1dbe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algn="just">
              <a:lnSpc>
                <a:spcPct val="100000"/>
              </a:lnSpc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Оказание помощи при подготовке конкурсной документации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на выделение гранта на реализацию инвестпроекта (находитс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в Минпромторге на рассмотрении)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42" name="Пятиугольник 16"/>
          <p:cNvSpPr/>
          <p:nvPr/>
        </p:nvSpPr>
        <p:spPr>
          <a:xfrm>
            <a:off x="457200" y="5911920"/>
            <a:ext cx="1963800" cy="63000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630000"/>
              <a:gd name="textAreaBottom" fmla="*/ 630360 h 63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34" y="0"/>
                </a:lnTo>
                <a:lnTo>
                  <a:pt x="21600" y="10800"/>
                </a:lnTo>
                <a:lnTo>
                  <a:pt x="181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казанное содействие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43" name="TextShape 2"/>
          <p:cNvSpPr/>
          <p:nvPr/>
        </p:nvSpPr>
        <p:spPr>
          <a:xfrm>
            <a:off x="701028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Shape 2"/>
          <p:cNvSpPr/>
          <p:nvPr/>
        </p:nvSpPr>
        <p:spPr>
          <a:xfrm>
            <a:off x="6499080" y="6291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11120" y="568440"/>
            <a:ext cx="6075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ru-RU" sz="3600" spc="-1" strike="noStrike">
                <a:solidFill>
                  <a:srgbClr val="375637"/>
                </a:solidFill>
                <a:latin typeface="Book Antiqua"/>
                <a:ea typeface="Arial"/>
              </a:rPr>
              <a:t> </a:t>
            </a:r>
            <a:r>
              <a:rPr b="1" lang="ru-RU" sz="3600" spc="-1" strike="noStrike">
                <a:solidFill>
                  <a:srgbClr val="375637"/>
                </a:solidFill>
                <a:latin typeface="Book Antiqua"/>
                <a:ea typeface="Arial"/>
              </a:rPr>
              <a:t>ООО «НПП СК МОСТ»</a:t>
            </a:r>
            <a:endParaRPr b="0" lang="en-US" sz="36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29960" y="1260000"/>
            <a:ext cx="884844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ts val="16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Проект:  «Организация производства буров по бетону»</a:t>
            </a:r>
            <a:endParaRPr b="0" lang="en-US" sz="20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274680" y="1855800"/>
            <a:ext cx="4619520" cy="51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5637"/>
                </a:solidFill>
                <a:latin typeface="DejaVu Sans"/>
              </a:rPr>
              <a:t>Социальная эффективность:</a:t>
            </a:r>
            <a:r>
              <a:rPr b="0" lang="ru-RU" sz="1500" spc="-1" strike="noStrike">
                <a:solidFill>
                  <a:srgbClr val="375637"/>
                </a:solidFill>
                <a:latin typeface="DejaVu Sans"/>
              </a:rPr>
              <a:t> будет создано </a:t>
            </a:r>
            <a:br>
              <a:rPr sz="1500"/>
            </a:br>
            <a:r>
              <a:rPr b="0" lang="ru-RU" sz="1500" spc="-1" strike="noStrike">
                <a:solidFill>
                  <a:srgbClr val="375637"/>
                </a:solidFill>
                <a:latin typeface="DejaVu Sans"/>
              </a:rPr>
              <a:t>20 новых рабочих мест;</a:t>
            </a:r>
            <a:endParaRPr b="0" lang="en-US" sz="15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5637"/>
                </a:solidFill>
                <a:latin typeface="DejaVu Sans"/>
              </a:rPr>
              <a:t>Объем инвестиций:</a:t>
            </a:r>
            <a:r>
              <a:rPr b="0" lang="ru-RU" sz="1500" spc="-1" strike="noStrike">
                <a:solidFill>
                  <a:srgbClr val="375637"/>
                </a:solidFill>
                <a:latin typeface="DejaVu Sans"/>
              </a:rPr>
              <a:t> 160 млн. руб.</a:t>
            </a:r>
            <a:endParaRPr b="0" lang="en-US" sz="15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5637"/>
                </a:solidFill>
                <a:latin typeface="DejaVu Sans"/>
              </a:rPr>
              <a:t>Сроки реализации:</a:t>
            </a:r>
            <a:r>
              <a:rPr b="0" lang="ru-RU" sz="1500" spc="-1" strike="noStrike">
                <a:solidFill>
                  <a:srgbClr val="375637"/>
                </a:solidFill>
                <a:latin typeface="DejaVu Sans"/>
              </a:rPr>
              <a:t> 2016 </a:t>
            </a:r>
            <a:r>
              <a:rPr b="0" lang="ru-RU" sz="1500" spc="-1" strike="noStrike">
                <a:solidFill>
                  <a:srgbClr val="375637"/>
                </a:solidFill>
                <a:latin typeface="Arial"/>
              </a:rPr>
              <a:t>–</a:t>
            </a:r>
            <a:r>
              <a:rPr b="0" lang="ru-RU" sz="1500" spc="-1" strike="noStrike">
                <a:solidFill>
                  <a:srgbClr val="375637"/>
                </a:solidFill>
                <a:latin typeface="DejaVu Sans"/>
              </a:rPr>
              <a:t> 2017 годы;</a:t>
            </a:r>
            <a:endParaRPr b="0" lang="en-US" sz="15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5637"/>
                </a:solidFill>
                <a:latin typeface="DejaVu Sans"/>
              </a:rPr>
              <a:t>Цель проекта:</a:t>
            </a:r>
            <a:r>
              <a:rPr b="0" lang="ru-RU" sz="1500" spc="-1" strike="noStrike">
                <a:solidFill>
                  <a:srgbClr val="375637"/>
                </a:solidFill>
                <a:latin typeface="DejaVu Sans"/>
              </a:rPr>
              <a:t> импортозамещение и импортоулучшение, так как буры по бетону ни в СССР, ни в России до сих пор не производили.</a:t>
            </a:r>
            <a:endParaRPr b="0" lang="en-US" sz="15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5637"/>
                </a:solidFill>
                <a:latin typeface="DejaVu Sans"/>
              </a:rPr>
              <a:t>Объем выпускаемой продукции:</a:t>
            </a:r>
            <a:r>
              <a:rPr b="0" lang="ru-RU" sz="1500" spc="-1" strike="noStrike">
                <a:solidFill>
                  <a:srgbClr val="375637"/>
                </a:solidFill>
                <a:latin typeface="DejaVu Sans"/>
              </a:rPr>
              <a:t>  до 5 тысяч буров в сутки, что покрывает все потребности РФ, а в будущем при расширении производства появится возможность выйти на экспорт.</a:t>
            </a:r>
            <a:endParaRPr b="0" lang="en-US" sz="15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5637"/>
                </a:solidFill>
                <a:latin typeface="DejaVu Sans"/>
              </a:rPr>
              <a:t>Объем налоговых отчислений:</a:t>
            </a:r>
            <a:r>
              <a:rPr b="0" lang="ru-RU" sz="1500" spc="-1" strike="noStrike">
                <a:solidFill>
                  <a:srgbClr val="375637"/>
                </a:solidFill>
                <a:latin typeface="DejaVu Sans"/>
              </a:rPr>
              <a:t> 15,8 млн. руб.</a:t>
            </a:r>
            <a:endParaRPr b="0" lang="en-US" sz="15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75637"/>
                </a:solidFill>
                <a:latin typeface="DejaVu Sans"/>
              </a:rPr>
              <a:t>Освоено:</a:t>
            </a:r>
            <a:r>
              <a:rPr b="0" lang="ru-RU" sz="1500" spc="-1" strike="noStrike">
                <a:solidFill>
                  <a:srgbClr val="375637"/>
                </a:solidFill>
                <a:latin typeface="DejaVu Sans"/>
              </a:rPr>
              <a:t> 20 млн. руб.</a:t>
            </a:r>
            <a:endParaRPr b="0" lang="en-US" sz="15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0" y="392040"/>
            <a:ext cx="1285920" cy="841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7" descr="thumbnail"/>
          <p:cNvPicPr/>
          <p:nvPr/>
        </p:nvPicPr>
        <p:blipFill>
          <a:blip r:embed="rId3"/>
          <a:stretch/>
        </p:blipFill>
        <p:spPr>
          <a:xfrm>
            <a:off x="8035920" y="324000"/>
            <a:ext cx="1108080" cy="8571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1"/>
          <p:cNvSpPr/>
          <p:nvPr/>
        </p:nvSpPr>
        <p:spPr>
          <a:xfrm>
            <a:off x="4921200" y="4510080"/>
            <a:ext cx="4057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75637"/>
                </a:solidFill>
                <a:latin typeface="DejaVu Sans"/>
              </a:rPr>
              <a:t>Текущий статус:</a:t>
            </a:r>
            <a:r>
              <a:rPr b="0" lang="en-US" sz="1600" spc="-1" strike="noStrike">
                <a:solidFill>
                  <a:srgbClr val="375637"/>
                </a:solidFill>
                <a:latin typeface="DejaVu Sans"/>
              </a:rPr>
              <a:t> 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5637"/>
                </a:solidFill>
                <a:latin typeface="DejaVu Sans"/>
              </a:rPr>
              <a:t>проведены изыскательские работы;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5637"/>
                </a:solidFill>
                <a:latin typeface="DejaVu Sans"/>
              </a:rPr>
              <a:t>Проводятся проектные работы.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253" name="Рисунок 15" descr="http://www.nppskmost.ru/images/tara4.jpg"/>
          <p:cNvPicPr/>
          <p:nvPr/>
        </p:nvPicPr>
        <p:blipFill>
          <a:blip r:embed="rId4"/>
          <a:stretch/>
        </p:blipFill>
        <p:spPr>
          <a:xfrm>
            <a:off x="4851360" y="1987560"/>
            <a:ext cx="4027680" cy="2097000"/>
          </a:xfrm>
          <a:prstGeom prst="rect">
            <a:avLst/>
          </a:prstGeom>
          <a:ln w="0">
            <a:noFill/>
          </a:ln>
        </p:spPr>
      </p:pic>
      <p:sp>
        <p:nvSpPr>
          <p:cNvPr id="254" name="Содержимое 10"/>
          <p:cNvSpPr/>
          <p:nvPr/>
        </p:nvSpPr>
        <p:spPr>
          <a:xfrm>
            <a:off x="141120" y="5880240"/>
            <a:ext cx="86868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Основано в 1946 году</a:t>
            </a:r>
            <a:endParaRPr b="0" lang="en-US" sz="20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55" name="Прямоугольник 13"/>
          <p:cNvSpPr/>
          <p:nvPr/>
        </p:nvSpPr>
        <p:spPr>
          <a:xfrm>
            <a:off x="1957320" y="5848200"/>
            <a:ext cx="6870600" cy="630360"/>
          </a:xfrm>
          <a:prstGeom prst="rect">
            <a:avLst/>
          </a:prstGeom>
          <a:solidFill>
            <a:srgbClr val="c1dbe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algn="just">
              <a:lnSpc>
                <a:spcPct val="100000"/>
              </a:lnSpc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Оказание помощи при подготовке конкурсной документации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на выделение гранта на реализацию инвестпроекта (находитс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в Минпромторге на рассмотрении)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56" name="Пятиугольник 14"/>
          <p:cNvSpPr/>
          <p:nvPr/>
        </p:nvSpPr>
        <p:spPr>
          <a:xfrm>
            <a:off x="274680" y="5848200"/>
            <a:ext cx="2092320" cy="630360"/>
          </a:xfrm>
          <a:custGeom>
            <a:avLst/>
            <a:gdLst>
              <a:gd name="textAreaLeft" fmla="*/ 0 w 2092320"/>
              <a:gd name="textAreaRight" fmla="*/ 2092320 w 209232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47" y="0"/>
                </a:lnTo>
                <a:lnTo>
                  <a:pt x="21600" y="10800"/>
                </a:lnTo>
                <a:lnTo>
                  <a:pt x="183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казанное содействие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57" name="TextShape 2"/>
          <p:cNvSpPr/>
          <p:nvPr/>
        </p:nvSpPr>
        <p:spPr>
          <a:xfrm>
            <a:off x="701028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Shap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90480" y="487440"/>
            <a:ext cx="7213680" cy="12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637"/>
                </a:solidFill>
                <a:latin typeface="Book Antiqua"/>
                <a:ea typeface="Arial"/>
              </a:rPr>
              <a:t>ООО «Технопул-Р»</a:t>
            </a:r>
            <a:endParaRPr b="0" lang="en-US" sz="40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44440" y="1625760"/>
            <a:ext cx="86868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Проект: «Строительство научно-производственной базы»</a:t>
            </a:r>
            <a:endParaRPr b="0" lang="en-US" sz="20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581040" y="2255760"/>
            <a:ext cx="723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637"/>
                </a:solidFill>
                <a:latin typeface="Arial"/>
              </a:rPr>
              <a:t>Основано: в 2004 году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637"/>
                </a:solidFill>
                <a:latin typeface="Arial"/>
              </a:rPr>
              <a:t>Вид основной деятельности: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637"/>
                </a:solidFill>
                <a:latin typeface="Arial"/>
              </a:rPr>
              <a:t>проектирование, производство спиральных конвейеров </a:t>
            </a:r>
            <a:br>
              <a:rPr sz="1800"/>
            </a:br>
            <a:r>
              <a:rPr b="0" lang="ru-RU" sz="1800" spc="-1" strike="noStrike">
                <a:solidFill>
                  <a:srgbClr val="375637"/>
                </a:solidFill>
                <a:latin typeface="Arial"/>
              </a:rPr>
              <a:t>и оборудования для заморозки продуктов, спектр монтажных </a:t>
            </a:r>
            <a:br>
              <a:rPr sz="1800"/>
            </a:br>
            <a:r>
              <a:rPr b="0" lang="ru-RU" sz="1800" spc="-1" strike="noStrike">
                <a:solidFill>
                  <a:srgbClr val="375637"/>
                </a:solidFill>
                <a:latin typeface="Arial"/>
              </a:rPr>
              <a:t>и пуско-наладочных работ, а также сервисное обслуживание 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637"/>
                </a:solidFill>
                <a:latin typeface="Arial"/>
              </a:rPr>
              <a:t>Основная продукция: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637"/>
                </a:solidFill>
                <a:latin typeface="Arial"/>
              </a:rPr>
              <a:t>комплексные линии для охлаждения, заморозки, расстойки (дрожжевания), выпекания пищевых продуктов. пр. 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637"/>
                </a:solidFill>
                <a:latin typeface="Arial"/>
              </a:rPr>
              <a:t>География поставок: </a:t>
            </a:r>
            <a:r>
              <a:rPr b="0" lang="ru-RU" sz="1800" spc="-1" strike="noStrike">
                <a:solidFill>
                  <a:srgbClr val="375637"/>
                </a:solidFill>
                <a:latin typeface="Arial"/>
              </a:rPr>
              <a:t>Россия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262" name="Picture 13" descr="logotip"/>
          <p:cNvPicPr/>
          <p:nvPr/>
        </p:nvPicPr>
        <p:blipFill>
          <a:blip r:embed="rId1"/>
          <a:stretch/>
        </p:blipFill>
        <p:spPr>
          <a:xfrm>
            <a:off x="6856560" y="727200"/>
            <a:ext cx="2116080" cy="539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4"/>
          <p:cNvSpPr/>
          <p:nvPr/>
        </p:nvSpPr>
        <p:spPr>
          <a:xfrm>
            <a:off x="0" y="6581880"/>
            <a:ext cx="9144000" cy="276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3"/>
          <a:stretch/>
        </p:blipFill>
        <p:spPr>
          <a:xfrm>
            <a:off x="0" y="563400"/>
            <a:ext cx="1295280" cy="847800"/>
          </a:xfrm>
          <a:prstGeom prst="rect">
            <a:avLst/>
          </a:prstGeom>
          <a:ln w="0">
            <a:noFill/>
          </a:ln>
        </p:spPr>
      </p:pic>
      <p:sp>
        <p:nvSpPr>
          <p:cNvPr id="266" name="Содержимое 10"/>
          <p:cNvSpPr/>
          <p:nvPr/>
        </p:nvSpPr>
        <p:spPr>
          <a:xfrm>
            <a:off x="141120" y="5880240"/>
            <a:ext cx="86868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Основано в 1946 году</a:t>
            </a:r>
            <a:endParaRPr b="0" lang="en-US" sz="20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67" name="Прямоугольник 11"/>
          <p:cNvSpPr/>
          <p:nvPr/>
        </p:nvSpPr>
        <p:spPr>
          <a:xfrm>
            <a:off x="1957320" y="5848200"/>
            <a:ext cx="6870600" cy="630360"/>
          </a:xfrm>
          <a:prstGeom prst="rect">
            <a:avLst/>
          </a:prstGeom>
          <a:solidFill>
            <a:srgbClr val="c1dbe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Оказание содействия в решении вопроса увеличения мощност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и присоединения к электрическим сетям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68" name="Пятиугольник 12"/>
          <p:cNvSpPr/>
          <p:nvPr/>
        </p:nvSpPr>
        <p:spPr>
          <a:xfrm>
            <a:off x="403200" y="5848200"/>
            <a:ext cx="1963800" cy="63036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34" y="0"/>
                </a:lnTo>
                <a:lnTo>
                  <a:pt x="21600" y="10800"/>
                </a:lnTo>
                <a:lnTo>
                  <a:pt x="181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казанное содействие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69" name="TextShape 2"/>
          <p:cNvSpPr/>
          <p:nvPr/>
        </p:nvSpPr>
        <p:spPr>
          <a:xfrm>
            <a:off x="701028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Shape 2"/>
          <p:cNvSpPr/>
          <p:nvPr/>
        </p:nvSpPr>
        <p:spPr>
          <a:xfrm>
            <a:off x="6553080" y="6175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90480" y="487440"/>
            <a:ext cx="7213680" cy="12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637"/>
                </a:solidFill>
                <a:latin typeface="Book Antiqua"/>
                <a:ea typeface="Arial"/>
              </a:rPr>
              <a:t>ООО «Технопул-Р»</a:t>
            </a:r>
            <a:endParaRPr b="0" lang="en-US" sz="40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03200" y="1452240"/>
            <a:ext cx="86868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Проект: «Строительство научно-производственной базы»</a:t>
            </a:r>
            <a:endParaRPr b="0" lang="en-US" sz="20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73" name="TextBox 11"/>
          <p:cNvSpPr/>
          <p:nvPr/>
        </p:nvSpPr>
        <p:spPr>
          <a:xfrm>
            <a:off x="247680" y="1959120"/>
            <a:ext cx="477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Инвестиции: 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План: 150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 млн. руб.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Освоено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 – </a:t>
            </a: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около 30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 млн.рублей (покупка земельного участка, работы по разработке проектной документации)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74" name="Rectangle 13"/>
          <p:cNvSpPr/>
          <p:nvPr/>
        </p:nvSpPr>
        <p:spPr>
          <a:xfrm>
            <a:off x="5030640" y="1819440"/>
            <a:ext cx="38293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Цель проекта: 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Производство </a:t>
            </a:r>
            <a:br>
              <a:rPr sz="1400"/>
            </a:b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и разработка конвейерного оборудования для заморозки пищевых продуктов, замещение зарубежных линий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Социальная эффективность: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Будет создано около 3500 кв. м производственных и складских площадей; создано 60 рабочих мест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Доли финансирования: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100% - собственные средства </a:t>
            </a:r>
            <a:br>
              <a:rPr sz="1400"/>
            </a:b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ООО «Технопул-Р»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На сегодняшний день проект находится </a:t>
            </a:r>
            <a:br>
              <a:rPr sz="1400"/>
            </a:b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на этапе разработки проектной документации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275" name="Picture 17" descr="logotip"/>
          <p:cNvPicPr/>
          <p:nvPr/>
        </p:nvPicPr>
        <p:blipFill>
          <a:blip r:embed="rId1"/>
          <a:stretch/>
        </p:blipFill>
        <p:spPr>
          <a:xfrm>
            <a:off x="6851520" y="689040"/>
            <a:ext cx="2149560" cy="5158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8"/>
          <p:cNvSpPr/>
          <p:nvPr/>
        </p:nvSpPr>
        <p:spPr>
          <a:xfrm>
            <a:off x="0" y="6562800"/>
            <a:ext cx="9144000" cy="2952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277" name="Picture 19" descr="252"/>
          <p:cNvPicPr/>
          <p:nvPr/>
        </p:nvPicPr>
        <p:blipFill>
          <a:blip r:embed="rId2"/>
          <a:stretch/>
        </p:blipFill>
        <p:spPr>
          <a:xfrm>
            <a:off x="403200" y="3429000"/>
            <a:ext cx="4533840" cy="20415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0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4"/>
          <a:stretch/>
        </p:blipFill>
        <p:spPr>
          <a:xfrm>
            <a:off x="0" y="611280"/>
            <a:ext cx="1285920" cy="841320"/>
          </a:xfrm>
          <a:prstGeom prst="rect">
            <a:avLst/>
          </a:prstGeom>
          <a:ln w="0">
            <a:noFill/>
          </a:ln>
        </p:spPr>
      </p:pic>
      <p:sp>
        <p:nvSpPr>
          <p:cNvPr id="280" name="Содержимое 10"/>
          <p:cNvSpPr/>
          <p:nvPr/>
        </p:nvSpPr>
        <p:spPr>
          <a:xfrm>
            <a:off x="141120" y="5699160"/>
            <a:ext cx="8686800" cy="54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Основано в 1946 году</a:t>
            </a:r>
            <a:endParaRPr b="0" lang="en-US" sz="20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957320" y="5665680"/>
            <a:ext cx="6870600" cy="630360"/>
          </a:xfrm>
          <a:prstGeom prst="rect">
            <a:avLst/>
          </a:prstGeom>
          <a:solidFill>
            <a:srgbClr val="c1dbe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Оказание содействия в решении вопроса увеличения мощност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и присоединения к электрическим сетям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82" name="Пятиугольник 14"/>
          <p:cNvSpPr/>
          <p:nvPr/>
        </p:nvSpPr>
        <p:spPr>
          <a:xfrm>
            <a:off x="403200" y="5665680"/>
            <a:ext cx="1963800" cy="630360"/>
          </a:xfrm>
          <a:custGeom>
            <a:avLst/>
            <a:gdLst>
              <a:gd name="textAreaLeft" fmla="*/ 0 w 1963800"/>
              <a:gd name="textAreaRight" fmla="*/ 1964160 w 196380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34" y="0"/>
                </a:lnTo>
                <a:lnTo>
                  <a:pt x="21600" y="10800"/>
                </a:lnTo>
                <a:lnTo>
                  <a:pt x="181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казанное содействие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83" name="TextShape 2"/>
          <p:cNvSpPr/>
          <p:nvPr/>
        </p:nvSpPr>
        <p:spPr>
          <a:xfrm>
            <a:off x="701028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Shap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90480" y="487440"/>
            <a:ext cx="7213680" cy="12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637"/>
                </a:solidFill>
                <a:latin typeface="Book Antiqua"/>
                <a:ea typeface="Arial"/>
              </a:rPr>
              <a:t>ООО «Технопул-Р»</a:t>
            </a:r>
            <a:endParaRPr b="0" lang="en-US" sz="40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17520" y="1452240"/>
            <a:ext cx="8686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Проект: «Строительство научно-производственной базы»</a:t>
            </a:r>
            <a:endParaRPr b="0" lang="en-US" sz="20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287" name="TextBox 12"/>
          <p:cNvSpPr/>
          <p:nvPr/>
        </p:nvSpPr>
        <p:spPr>
          <a:xfrm>
            <a:off x="169920" y="1987560"/>
            <a:ext cx="4333680" cy="36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Срок реализации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2014 – 2017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Планы развития 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75637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 этап: 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Строительство помещения для испытания оборудования (400 кв.м) – сентябрь 2016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75637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этап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: Строительство склада (600 кв.м) </a:t>
            </a:r>
            <a:br>
              <a:rPr sz="1400"/>
            </a:b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– октябрь 2016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75637"/>
                </a:solidFill>
                <a:latin typeface="Arial"/>
              </a:rPr>
              <a:t>III</a:t>
            </a: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 этап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: Строительство производственного цеха (2000 кв.м) – ноябрь 2016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75637"/>
                </a:solidFill>
                <a:latin typeface="Arial"/>
              </a:rPr>
              <a:t>IV </a:t>
            </a: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этап: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 Расширение станочного парка </a:t>
            </a:r>
            <a:br>
              <a:rPr sz="1400"/>
            </a:b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– январь 2017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75637"/>
                </a:solidFill>
                <a:latin typeface="Arial"/>
              </a:rPr>
              <a:t>V </a:t>
            </a: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этап: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 Увеличение штата научных сотрудников – январь 2017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Объем налоговых отчислений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Более 3,5 млн. руб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0" y="6581880"/>
            <a:ext cx="9144000" cy="276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289" name="Picture 15" descr="logotip"/>
          <p:cNvPicPr/>
          <p:nvPr/>
        </p:nvPicPr>
        <p:blipFill>
          <a:blip r:embed="rId1"/>
          <a:stretch/>
        </p:blipFill>
        <p:spPr>
          <a:xfrm>
            <a:off x="6997680" y="776160"/>
            <a:ext cx="2006640" cy="5446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6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4"/>
          <a:stretch/>
        </p:blipFill>
        <p:spPr>
          <a:xfrm>
            <a:off x="0" y="344520"/>
            <a:ext cx="1295280" cy="8478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2"/>
          <p:cNvSpPr/>
          <p:nvPr/>
        </p:nvSpPr>
        <p:spPr>
          <a:xfrm>
            <a:off x="5213520" y="2198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294" name="Рисунок 1" descr=""/>
          <p:cNvPicPr/>
          <p:nvPr/>
        </p:nvPicPr>
        <p:blipFill>
          <a:blip r:embed="rId5"/>
          <a:stretch/>
        </p:blipFill>
        <p:spPr>
          <a:xfrm>
            <a:off x="4906800" y="1987560"/>
            <a:ext cx="3780000" cy="3629160"/>
          </a:xfrm>
          <a:prstGeom prst="rect">
            <a:avLst/>
          </a:prstGeom>
          <a:ln w="0">
            <a:noFill/>
          </a:ln>
        </p:spPr>
      </p:pic>
      <p:sp>
        <p:nvSpPr>
          <p:cNvPr id="295" name="Содержимое 10"/>
          <p:cNvSpPr/>
          <p:nvPr/>
        </p:nvSpPr>
        <p:spPr>
          <a:xfrm>
            <a:off x="22320" y="5778360"/>
            <a:ext cx="8686800" cy="55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Основано в 1946 году</a:t>
            </a:r>
            <a:endParaRPr b="0" lang="en-US" sz="20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96" name="Прямоугольник 14"/>
          <p:cNvSpPr/>
          <p:nvPr/>
        </p:nvSpPr>
        <p:spPr>
          <a:xfrm>
            <a:off x="1838160" y="5746680"/>
            <a:ext cx="6870960" cy="630360"/>
          </a:xfrm>
          <a:prstGeom prst="rect">
            <a:avLst/>
          </a:prstGeom>
          <a:solidFill>
            <a:srgbClr val="c1dbe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Оказание содействия в решении вопроса увеличения мощност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и присоединения к электрическим сетям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97" name="Пятиугольник 15"/>
          <p:cNvSpPr/>
          <p:nvPr/>
        </p:nvSpPr>
        <p:spPr>
          <a:xfrm>
            <a:off x="285840" y="5746680"/>
            <a:ext cx="1962000" cy="630360"/>
          </a:xfrm>
          <a:custGeom>
            <a:avLst/>
            <a:gdLst>
              <a:gd name="textAreaLeft" fmla="*/ 0 w 1962000"/>
              <a:gd name="textAreaRight" fmla="*/ 1962360 w 196200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31" y="0"/>
                </a:lnTo>
                <a:lnTo>
                  <a:pt x="21600" y="10800"/>
                </a:lnTo>
                <a:lnTo>
                  <a:pt x="181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казанное содействие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298" name="TextShape 2"/>
          <p:cNvSpPr/>
          <p:nvPr/>
        </p:nvSpPr>
        <p:spPr>
          <a:xfrm>
            <a:off x="701028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2720"/>
          </a:xfrm>
          <a:prstGeom prst="rect">
            <a:avLst/>
          </a:prstGeom>
          <a:ln w="0">
            <a:noFill/>
          </a:ln>
        </p:spPr>
      </p:pic>
      <p:sp>
        <p:nvSpPr>
          <p:cNvPr id="300" name="TextShap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96800" y="590400"/>
            <a:ext cx="5941800" cy="11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5637"/>
                </a:solidFill>
                <a:latin typeface="Book Antiqua"/>
                <a:ea typeface="Arial"/>
              </a:rPr>
              <a:t>Промышленная площадка в Городском округе Балашиха</a:t>
            </a:r>
            <a:endParaRPr b="0" lang="en-US" sz="28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241200" y="1546200"/>
            <a:ext cx="8391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Промышленная площадка для размещения новых производств инвесторов создана на базе производственного комплекса ПАО «Криогенмаш»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Информация о площадке: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Площадь участка – 34,1 га;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Право собственности земельного участка – собственность ПАО «Криогенмаш»;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Специализация – универсальная, в том числе аренда складских помещений;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Доступ к участку с трассы – наличие развязки, возможность разворота;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Свободные производственно-складские помещения – 35 тыс. кв.м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5637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офисные – 7,7 тыс. кв.м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3"/>
          <a:stretch/>
        </p:blipFill>
        <p:spPr>
          <a:xfrm>
            <a:off x="0" y="344520"/>
            <a:ext cx="1295280" cy="847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DSC_0433"/>
          <p:cNvPicPr/>
          <p:nvPr/>
        </p:nvPicPr>
        <p:blipFill>
          <a:blip r:embed="rId4"/>
          <a:stretch/>
        </p:blipFill>
        <p:spPr>
          <a:xfrm>
            <a:off x="314280" y="3678120"/>
            <a:ext cx="3897360" cy="26114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5"/>
          <p:cNvSpPr/>
          <p:nvPr/>
        </p:nvSpPr>
        <p:spPr>
          <a:xfrm>
            <a:off x="0" y="6581880"/>
            <a:ext cx="9144000" cy="276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4392720" y="4086360"/>
            <a:ext cx="43210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5637"/>
                </a:solidFill>
                <a:latin typeface="Arial"/>
              </a:rPr>
              <a:t>На территорию промышленной площадки привлечено 9 арендаторов.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563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75637"/>
                </a:solidFill>
                <a:latin typeface="Arial"/>
              </a:rPr>
              <a:t>Из них занимаются производственной деятельностью – 3.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5637"/>
                </a:solidFill>
                <a:latin typeface="Arial"/>
              </a:rPr>
              <a:t>Создано 429 рабочих мест, в том числе в промышленном производстве – 70.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308" name="TextShape 2"/>
          <p:cNvSpPr/>
          <p:nvPr/>
        </p:nvSpPr>
        <p:spPr>
          <a:xfrm>
            <a:off x="701028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:\Documents and Settings\vollkovskaya\Рабочий стол\balashiha.jpg"/>
          <p:cNvPicPr/>
          <p:nvPr/>
        </p:nvPicPr>
        <p:blipFill>
          <a:blip r:embed="rId1"/>
          <a:stretch/>
        </p:blipFill>
        <p:spPr>
          <a:xfrm>
            <a:off x="258840" y="2324160"/>
            <a:ext cx="3989160" cy="3463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65000" y="579240"/>
            <a:ext cx="5941800" cy="8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5637"/>
                </a:solidFill>
                <a:latin typeface="Book Antiqua"/>
                <a:ea typeface="Arial"/>
              </a:rPr>
              <a:t>Социально-экономическое положение Городского округа Балашиха</a:t>
            </a:r>
            <a:endParaRPr b="0" lang="en-US" sz="2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87" name="Содержимое 10"/>
          <p:cNvSpPr/>
          <p:nvPr/>
        </p:nvSpPr>
        <p:spPr>
          <a:xfrm>
            <a:off x="233280" y="1380960"/>
            <a:ext cx="8686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692360" y="1533600"/>
            <a:ext cx="669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Численность населения на 01.01.2016 г.* – 440 513 чел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Площадь – 24 416 га. 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Объем отгруженной продукции за 2015 г.** - 71 млрд. руб. (</a:t>
            </a: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↑10% 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к 2014 г.)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в том числе по отраслям экономики: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774720"/>
            <a:ext cx="1341360" cy="9018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6"/>
          <p:cNvSpPr/>
          <p:nvPr/>
        </p:nvSpPr>
        <p:spPr>
          <a:xfrm>
            <a:off x="0" y="6496200"/>
            <a:ext cx="9144000" cy="3618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614680" y="2405160"/>
            <a:ext cx="156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9 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км от МКАД до центра </a:t>
            </a:r>
            <a:br>
              <a:rPr sz="1400"/>
            </a:b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ГО Балашиха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94" name="Диаграмма 17" descr=""/>
          <p:cNvPicPr/>
          <p:nvPr/>
        </p:nvPicPr>
        <p:blipFill>
          <a:blip r:embed="rId4"/>
          <a:stretch/>
        </p:blipFill>
        <p:spPr>
          <a:xfrm>
            <a:off x="4041720" y="2219400"/>
            <a:ext cx="4956120" cy="387648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0" y="59198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реднегодовая численность населения за 2015 г. по данным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.mosreg.ru;</a:t>
            </a:r>
            <a:endParaRPr b="0" lang="en-US" sz="10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*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 средним и крупным предприятиям, отгружено продукции своими силами , без малых предприятий и средняя численность работников которых превышает 15 человек за 2015 г., рассчитано по данным статистики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reg.ru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96" name="TextShape 2"/>
          <p:cNvSpPr/>
          <p:nvPr/>
        </p:nvSpPr>
        <p:spPr>
          <a:xfrm>
            <a:off x="7010280" y="6470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2720"/>
          </a:xfrm>
          <a:prstGeom prst="rect">
            <a:avLst/>
          </a:prstGeom>
          <a:ln w="0">
            <a:noFill/>
          </a:ln>
        </p:spPr>
      </p:pic>
      <p:sp>
        <p:nvSpPr>
          <p:cNvPr id="310" name="TextShap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6800" y="733320"/>
            <a:ext cx="5941800" cy="11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5637"/>
                </a:solidFill>
                <a:latin typeface="Book Antiqua"/>
                <a:ea typeface="Arial"/>
              </a:rPr>
              <a:t>Характеристика промышленной площадки в Городском округе Балашиха</a:t>
            </a:r>
            <a:endParaRPr b="0" lang="en-US" sz="2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250920" y="1908000"/>
            <a:ext cx="8648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Коммунальная структура: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Электрическая мощность на участке 16 МВт (есть возможность подсоединения);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Водообеспечение (централизованное и собственное – скважины и ВЗУ);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Водоотведение в городскую канализацию сеть d = 500 мм по ул.Белякова; 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Подведена система газоснабжения (котельная работает на газе);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Теплоснабжение осуществляется за счет собственной котельной. Мощность котельной 180 Гкал/час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3"/>
          <a:stretch/>
        </p:blipFill>
        <p:spPr>
          <a:xfrm>
            <a:off x="0" y="344520"/>
            <a:ext cx="1295280" cy="8478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Proekt"/>
          <p:cNvPicPr/>
          <p:nvPr/>
        </p:nvPicPr>
        <p:blipFill>
          <a:blip r:embed="rId4"/>
          <a:stretch/>
        </p:blipFill>
        <p:spPr>
          <a:xfrm>
            <a:off x="1504800" y="3952800"/>
            <a:ext cx="6099480" cy="252432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4"/>
          <p:cNvSpPr/>
          <p:nvPr/>
        </p:nvSpPr>
        <p:spPr>
          <a:xfrm>
            <a:off x="0" y="6610320"/>
            <a:ext cx="9144000" cy="2476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317" name="TextShape 2"/>
          <p:cNvSpPr/>
          <p:nvPr/>
        </p:nvSpPr>
        <p:spPr>
          <a:xfrm>
            <a:off x="701028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590400"/>
            <a:ext cx="5941800" cy="8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5637"/>
                </a:solidFill>
                <a:latin typeface="Book Antiqua"/>
                <a:ea typeface="Arial"/>
              </a:rPr>
              <a:t>Балашиха – крупнейший по числу жителей город Подмосковья</a:t>
            </a:r>
            <a:endParaRPr b="0" lang="en-US" sz="2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98" name="Содержимое 10"/>
          <p:cNvSpPr/>
          <p:nvPr/>
        </p:nvSpPr>
        <p:spPr>
          <a:xfrm>
            <a:off x="233280" y="1380960"/>
            <a:ext cx="8686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189000" y="1793880"/>
            <a:ext cx="862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В конце декабря 2014 года городской округ Балашиха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и городской округ Железнодорожный были объединены во вновь образованное муниципальное образование: Городской округ Балашиха. Новая Администрация начала работу с 1 января 2016 года. 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4898880" y="2651040"/>
            <a:ext cx="40212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В городском округе 9 системообразующих предприятий: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- ОАО «Научно-исследовательский технологический институт им. П.И. Снегирева»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buClr>
                <a:srgbClr val="3756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ЗАО «Минеральная вата»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buClr>
                <a:srgbClr val="3756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ОАО «Авиационная компания «Рубин»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buClr>
                <a:srgbClr val="3756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П АО «Криогенмаш»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buClr>
                <a:srgbClr val="3756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ОАО «Балашихинский литейно-механический завод»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buClr>
                <a:srgbClr val="3756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ОАО «Научно-исследовательский технологический институт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buClr>
                <a:srgbClr val="3756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ОАО «345 Механический завод»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buClr>
                <a:srgbClr val="3756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ОАО «ЛиндеГазРус»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buClr>
                <a:srgbClr val="3756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ООО «Кучинский Керамический Завод-1»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774720"/>
            <a:ext cx="1341360" cy="901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0" y="6496200"/>
            <a:ext cx="9144000" cy="3618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146160" y="2712960"/>
            <a:ext cx="4808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5637"/>
                </a:solidFill>
                <a:latin typeface="Arial"/>
              </a:rPr>
              <a:t>В городском округе - </a:t>
            </a:r>
            <a:r>
              <a:rPr b="1" lang="en-US" sz="1400" spc="-1" strike="noStrike">
                <a:solidFill>
                  <a:srgbClr val="375637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375637"/>
                </a:solidFill>
                <a:latin typeface="Arial"/>
              </a:rPr>
              <a:t> - крупных предприятий, на которых трудится более </a:t>
            </a:r>
            <a:r>
              <a:rPr b="1" lang="en-US" sz="1400" spc="-1" strike="noStrike">
                <a:solidFill>
                  <a:srgbClr val="375637"/>
                </a:solidFill>
                <a:latin typeface="Arial"/>
              </a:rPr>
              <a:t>10 тыс. человек</a:t>
            </a:r>
            <a:r>
              <a:rPr b="0" lang="en-US" sz="1400" spc="-1" strike="noStrike">
                <a:solidFill>
                  <a:srgbClr val="375637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75637"/>
                </a:solidFill>
                <a:latin typeface="Arial"/>
              </a:rPr>
              <a:t>Основные отрасли: 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5637"/>
                </a:solidFill>
                <a:latin typeface="Arial"/>
              </a:rPr>
              <a:t>химическая;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5637"/>
                </a:solidFill>
                <a:latin typeface="Arial"/>
              </a:rPr>
              <a:t>авиастроение; 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5637"/>
                </a:solidFill>
                <a:latin typeface="Arial"/>
              </a:rPr>
              <a:t>машиностроение;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5637"/>
                </a:solidFill>
                <a:latin typeface="Arial"/>
              </a:rPr>
              <a:t>пищевая; 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5637"/>
                </a:solidFill>
                <a:latin typeface="Arial"/>
              </a:rPr>
              <a:t>производство стройматериалов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05" name="TextShape 2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Shap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6800" y="590040"/>
            <a:ext cx="5941800" cy="6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5637"/>
                </a:solidFill>
                <a:latin typeface="Book Antiqua"/>
                <a:ea typeface="Arial"/>
              </a:rPr>
              <a:t>ИНВЕСТИЦИИ</a:t>
            </a:r>
            <a:endParaRPr b="0" lang="en-US" sz="2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08" name="Содержимое 10"/>
          <p:cNvSpPr/>
          <p:nvPr/>
        </p:nvSpPr>
        <p:spPr>
          <a:xfrm>
            <a:off x="233280" y="1380960"/>
            <a:ext cx="8686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608040" y="1152360"/>
            <a:ext cx="831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Объем инвестиций в основной капитал: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DejaVu Sans"/>
              </a:rPr>
              <a:t>Инвестиции, в основной капитал без учёта бюджетных инвестиций и жилищного строительства составили в 2015 г. свыше </a:t>
            </a:r>
            <a:r>
              <a:rPr b="1" lang="ru-RU" sz="1600" spc="-1" strike="noStrike">
                <a:solidFill>
                  <a:srgbClr val="375637"/>
                </a:solidFill>
                <a:latin typeface="DejaVu Sans"/>
              </a:rPr>
              <a:t>5 </a:t>
            </a:r>
            <a:r>
              <a:rPr b="0" lang="ru-RU" sz="1600" spc="-1" strike="noStrike">
                <a:solidFill>
                  <a:srgbClr val="375637"/>
                </a:solidFill>
                <a:latin typeface="DejaVu Sans"/>
              </a:rPr>
              <a:t>млрд. руб.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608040" y="3124080"/>
            <a:ext cx="4324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Реконструкцию и модернизацию в 2015 году провели 2 предприятия: </a:t>
            </a:r>
            <a:br>
              <a:rPr sz="1600"/>
            </a:b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ПАО «Криогенмаш» (масштабная модернизация производства, реконструкция лабораторных корпусов) 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Объем инвестиций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 - 3,</a:t>
            </a:r>
            <a:r>
              <a:rPr b="0" lang="en-US" sz="1600" spc="-1" strike="noStrike">
                <a:solidFill>
                  <a:srgbClr val="375637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 млрд. руб. 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Создано 1300 рабочих мест.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buClr>
                <a:srgbClr val="37563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Кучинский Керамический завод (Реконструкция завода)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Объем инвестиций: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 свыше 1,3 млрд. руб.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Создано более 490 рабочих мест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0" y="6562800"/>
            <a:ext cx="9144000" cy="2952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241200"/>
            <a:ext cx="1395360" cy="893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Криогенмаш"/>
          <p:cNvPicPr/>
          <p:nvPr/>
        </p:nvPicPr>
        <p:blipFill>
          <a:blip r:embed="rId3"/>
          <a:stretch/>
        </p:blipFill>
        <p:spPr>
          <a:xfrm>
            <a:off x="5362560" y="2316240"/>
            <a:ext cx="3295800" cy="1854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2" descr="Криогенмаш2"/>
          <p:cNvPicPr/>
          <p:nvPr/>
        </p:nvPicPr>
        <p:blipFill>
          <a:blip r:embed="rId4"/>
          <a:stretch/>
        </p:blipFill>
        <p:spPr>
          <a:xfrm>
            <a:off x="5400720" y="4510080"/>
            <a:ext cx="3286080" cy="1735200"/>
          </a:xfrm>
          <a:prstGeom prst="rect">
            <a:avLst/>
          </a:prstGeom>
          <a:ln w="0">
            <a:noFill/>
          </a:ln>
        </p:spPr>
      </p:pic>
      <p:sp>
        <p:nvSpPr>
          <p:cNvPr id="116" name="TextShape 2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Shap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96800" y="590040"/>
            <a:ext cx="5941800" cy="6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5637"/>
                </a:solidFill>
                <a:latin typeface="Book Antiqua"/>
                <a:ea typeface="Arial"/>
              </a:rPr>
              <a:t>Мониторинг проектов в ЕАС ПИП  </a:t>
            </a:r>
            <a:endParaRPr b="0" lang="en-US" sz="2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19" name="Содержимое 10"/>
          <p:cNvSpPr/>
          <p:nvPr/>
        </p:nvSpPr>
        <p:spPr>
          <a:xfrm>
            <a:off x="233280" y="1380960"/>
            <a:ext cx="86868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233280" y="1384200"/>
            <a:ext cx="480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637"/>
                </a:solidFill>
                <a:latin typeface="Arial"/>
              </a:rPr>
              <a:t>Всего</a:t>
            </a:r>
            <a:r>
              <a:rPr b="0" lang="ru-RU" sz="1800" spc="-1" strike="noStrike">
                <a:solidFill>
                  <a:srgbClr val="375637"/>
                </a:solidFill>
                <a:latin typeface="Arial"/>
              </a:rPr>
              <a:t>   - 37 инвестиционных проектов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637"/>
                </a:solidFill>
                <a:latin typeface="Arial"/>
              </a:rPr>
              <a:t>Реализуемых</a:t>
            </a:r>
            <a:r>
              <a:rPr b="0" lang="ru-RU" sz="1800" spc="-1" strike="noStrike">
                <a:solidFill>
                  <a:srgbClr val="375637"/>
                </a:solidFill>
                <a:latin typeface="Arial"/>
              </a:rPr>
              <a:t> – 22 проекта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637"/>
                </a:solidFill>
                <a:latin typeface="Arial"/>
              </a:rPr>
              <a:t>Завершенных</a:t>
            </a:r>
            <a:r>
              <a:rPr b="0" lang="ru-RU" sz="1800" spc="-1" strike="noStrike">
                <a:solidFill>
                  <a:srgbClr val="375637"/>
                </a:solidFill>
                <a:latin typeface="Arial"/>
              </a:rPr>
              <a:t> – 15 проектов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637"/>
                </a:solidFill>
                <a:latin typeface="Arial"/>
              </a:rPr>
              <a:t>Промышленность</a:t>
            </a:r>
            <a:r>
              <a:rPr b="0" lang="ru-RU" sz="1800" spc="-1" strike="noStrike">
                <a:solidFill>
                  <a:srgbClr val="375637"/>
                </a:solidFill>
                <a:latin typeface="Arial"/>
              </a:rPr>
              <a:t> – 17 проектов;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637"/>
                </a:solidFill>
                <a:latin typeface="Arial"/>
              </a:rPr>
              <a:t>Мясоперерабатывающая промышленность </a:t>
            </a:r>
            <a:r>
              <a:rPr b="0" lang="ru-RU" sz="1800" spc="-1" strike="noStrike">
                <a:solidFill>
                  <a:srgbClr val="375637"/>
                </a:solidFill>
                <a:latin typeface="Arial"/>
              </a:rPr>
              <a:t>– 1 проект;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637"/>
                </a:solidFill>
                <a:latin typeface="Arial"/>
              </a:rPr>
              <a:t>Торговля</a:t>
            </a:r>
            <a:r>
              <a:rPr b="0" lang="ru-RU" sz="1800" spc="-1" strike="noStrike">
                <a:solidFill>
                  <a:srgbClr val="375637"/>
                </a:solidFill>
                <a:latin typeface="Arial"/>
              </a:rPr>
              <a:t>  - 8 проектов;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637"/>
                </a:solidFill>
                <a:latin typeface="Arial"/>
              </a:rPr>
              <a:t>Транспорт и логистика</a:t>
            </a:r>
            <a:r>
              <a:rPr b="0" lang="ru-RU" sz="1800" spc="-1" strike="noStrike">
                <a:solidFill>
                  <a:srgbClr val="375637"/>
                </a:solidFill>
                <a:latin typeface="Arial"/>
              </a:rPr>
              <a:t>  -  2 проекта;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5637"/>
                </a:solidFill>
                <a:latin typeface="Arial"/>
              </a:rPr>
              <a:t>Прочие</a:t>
            </a:r>
            <a:r>
              <a:rPr b="0" lang="ru-RU" sz="1800" spc="-1" strike="noStrike">
                <a:solidFill>
                  <a:srgbClr val="375637"/>
                </a:solidFill>
                <a:latin typeface="Arial"/>
              </a:rPr>
              <a:t> - 9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5037120" y="1411200"/>
            <a:ext cx="3495600" cy="2344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DSC05129"/>
          <p:cNvPicPr/>
          <p:nvPr/>
        </p:nvPicPr>
        <p:blipFill>
          <a:blip r:embed="rId2"/>
          <a:stretch/>
        </p:blipFill>
        <p:spPr>
          <a:xfrm>
            <a:off x="351000" y="4254480"/>
            <a:ext cx="3971880" cy="2081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2"/>
          <p:cNvSpPr/>
          <p:nvPr/>
        </p:nvSpPr>
        <p:spPr>
          <a:xfrm>
            <a:off x="0" y="6600960"/>
            <a:ext cx="9144000" cy="2570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4"/>
          <a:stretch/>
        </p:blipFill>
        <p:spPr>
          <a:xfrm>
            <a:off x="0" y="289080"/>
            <a:ext cx="1349280" cy="865080"/>
          </a:xfrm>
          <a:prstGeom prst="rect">
            <a:avLst/>
          </a:prstGeom>
          <a:ln w="0">
            <a:noFill/>
          </a:ln>
        </p:spPr>
      </p:pic>
      <p:sp>
        <p:nvSpPr>
          <p:cNvPr id="126" name="TextShape 2"/>
          <p:cNvSpPr/>
          <p:nvPr/>
        </p:nvSpPr>
        <p:spPr>
          <a:xfrm>
            <a:off x="701028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037120" y="3954600"/>
            <a:ext cx="349560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Shap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1281240"/>
          <a:ext cx="8663040" cy="4583160"/>
        </p:xfrm>
        <a:graphic>
          <a:graphicData uri="http://schemas.openxmlformats.org/drawingml/2006/table">
            <a:tbl>
              <a:tblPr/>
              <a:tblGrid>
                <a:gridCol w="4486320"/>
                <a:gridCol w="1542960"/>
                <a:gridCol w="2633760"/>
              </a:tblGrid>
              <a:tr h="66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DejaVu Sans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DejaVu Sans"/>
                        </a:rPr>
                        <a:t>Текущий статус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  <a:ea typeface="DejaVu Sans"/>
                        </a:rPr>
                        <a:t>Объем инвестиций (планируемый)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3ccff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ОАО 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Arial"/>
                          <a:ea typeface="DejaVu Sans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Авиационная корпорация 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Arial"/>
                          <a:ea typeface="DejaVu Sans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Рубин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Arial"/>
                          <a:ea typeface="DejaVu Sans"/>
                        </a:rPr>
                        <a:t>»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Создание нового механического цеха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b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r>
                        <a:rPr b="0" lang="ru-RU" sz="1400" spc="-1" strike="noStrike">
                          <a:solidFill>
                            <a:srgbClr val="375637"/>
                          </a:solidFill>
                          <a:latin typeface="Book Antiqua"/>
                          <a:ea typeface="DejaVu Sans"/>
                        </a:rPr>
                        <a:t>Реализуемый. 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b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r>
                        <a:rPr b="0" lang="ru-RU" sz="1400" spc="-1" strike="noStrike">
                          <a:solidFill>
                            <a:srgbClr val="375637"/>
                          </a:solidFill>
                          <a:latin typeface="Book Antiqua"/>
                          <a:ea typeface="DejaVu Sans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375637"/>
                          </a:solidFill>
                          <a:latin typeface="Book Antiqua"/>
                          <a:ea typeface="DejaVu Sans"/>
                        </a:rPr>
                        <a:t>2 058 млн. руб.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bff"/>
                    </a:solidFill>
                  </a:tcPr>
                </a:tc>
              </a:tr>
              <a:tr h="106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ПАО 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Arial"/>
                          <a:ea typeface="DejaVu Sans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Криогенмаш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Arial"/>
                          <a:ea typeface="DejaVu Sans"/>
                        </a:rPr>
                        <a:t>»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 Лабораторно-стендовая база научно-исследовательского и конструкторского института криогенного машиностроения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b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r>
                        <a:rPr b="0" lang="ru-RU" sz="1400" spc="-1" strike="noStrike">
                          <a:solidFill>
                            <a:srgbClr val="375637"/>
                          </a:solidFill>
                          <a:latin typeface="Book Antiqua"/>
                          <a:ea typeface="DejaVu Sans"/>
                        </a:rPr>
                        <a:t>Реализуемый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b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r>
                        <a:rPr b="0" lang="ru-RU" sz="1400" spc="-1" strike="noStrike">
                          <a:solidFill>
                            <a:srgbClr val="375637"/>
                          </a:solidFill>
                          <a:latin typeface="Book Antiqua"/>
                          <a:ea typeface="DejaVu San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375637"/>
                          </a:solidFill>
                          <a:latin typeface="Book Antiqua"/>
                          <a:ea typeface="DejaVu Sans"/>
                        </a:rPr>
                        <a:t>398  млн. руб.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bff"/>
                    </a:solidFill>
                  </a:tcPr>
                </a:tc>
              </a:tr>
              <a:tr h="76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ООО 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Arial"/>
                          <a:ea typeface="DejaVu Sans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Лукес-Д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Arial"/>
                          <a:ea typeface="DejaVu Sans"/>
                        </a:rPr>
                        <a:t>»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 Открытие нового цеха по производству мясных изделий и полуфабрикатов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b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75637"/>
                          </a:solidFill>
                          <a:latin typeface="Book Antiqua"/>
                          <a:ea typeface="DejaVu Sans"/>
                        </a:rPr>
                        <a:t>Реализуемый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b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r>
                        <a:rPr b="0" lang="ru-RU" sz="1400" spc="-1" strike="noStrike">
                          <a:solidFill>
                            <a:srgbClr val="375637"/>
                          </a:solidFill>
                          <a:latin typeface="Book Antiqua"/>
                          <a:ea typeface="DejaVu Sans"/>
                        </a:rPr>
                        <a:t>380 млн. руб.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bff"/>
                    </a:solidFill>
                  </a:tcPr>
                </a:tc>
              </a:tr>
              <a:tr h="7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ООО 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Arial"/>
                          <a:ea typeface="DejaVu Sans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НПП СК МОСТ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Arial"/>
                          <a:ea typeface="DejaVu Sans"/>
                        </a:rPr>
                        <a:t>»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 Организация производства буров по бетону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b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5637"/>
                          </a:solidFill>
                          <a:latin typeface="Book Antiqua"/>
                          <a:ea typeface="DejaVu Sans"/>
                        </a:rPr>
                        <a:t>Реализуемый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b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r>
                        <a:rPr b="0" lang="ru-RU" sz="1400" spc="-1" strike="noStrike">
                          <a:solidFill>
                            <a:srgbClr val="375637"/>
                          </a:solidFill>
                          <a:latin typeface="Book Antiqua"/>
                          <a:ea typeface="DejaVu Sans"/>
                        </a:rPr>
                        <a:t>160 млн. руб.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fbff"/>
                    </a:solidFill>
                  </a:tcPr>
                </a:tc>
              </a:tr>
              <a:tr h="761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ООО 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Book Antiqua"/>
                          <a:ea typeface="DejaVu Sans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Технопул-Р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Book Antiqua"/>
                          <a:ea typeface="DejaVu Sans"/>
                        </a:rPr>
                        <a:t>»</a:t>
                      </a:r>
                      <a:r>
                        <a:rPr b="1" lang="ru-RU" sz="1400" spc="-1" strike="noStrike">
                          <a:solidFill>
                            <a:srgbClr val="375637"/>
                          </a:solidFill>
                          <a:latin typeface="DejaVu Sans"/>
                          <a:ea typeface="DejaVu Sans"/>
                        </a:rPr>
                        <a:t> Строительство научно-производственной базы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1fb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75637"/>
                          </a:solidFill>
                          <a:latin typeface="Book Antiqua"/>
                          <a:ea typeface="DejaVu Sans"/>
                        </a:rPr>
                        <a:t>Реализуемый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1fb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60400"/>
                          <a:tab algn="l" pos="1720800"/>
                          <a:tab algn="l" pos="2581200"/>
                          <a:tab algn="l" pos="3441600"/>
                          <a:tab algn="l" pos="4302000"/>
                          <a:tab algn="l" pos="5162400"/>
                          <a:tab algn="l" pos="6022800"/>
                          <a:tab algn="l" pos="6883560"/>
                          <a:tab algn="l" pos="7743960"/>
                          <a:tab algn="l" pos="8604360"/>
                          <a:tab algn="l" pos="9464760"/>
                          <a:tab algn="l" pos="10325160"/>
                        </a:tabLst>
                      </a:pPr>
                      <a:r>
                        <a:rPr b="0" lang="ru-RU" sz="1400" spc="-1" strike="noStrike">
                          <a:solidFill>
                            <a:srgbClr val="375637"/>
                          </a:solidFill>
                          <a:latin typeface="Book Antiqua"/>
                          <a:ea typeface="DejaVu Sans"/>
                        </a:rPr>
                        <a:t>150  млн. руб.</a:t>
                      </a:r>
                      <a:endParaRPr b="0" lang="en-US" sz="1400" spc="-1" strike="noStrike">
                        <a:solidFill>
                          <a:srgbClr val="375637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1fbff"/>
                    </a:solidFill>
                  </a:tcPr>
                </a:tc>
              </a:tr>
            </a:tbl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590040"/>
            <a:ext cx="5942160" cy="6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5637"/>
                </a:solidFill>
                <a:latin typeface="Book Antiqua"/>
                <a:ea typeface="Arial"/>
              </a:rPr>
              <a:t>Основные проекты Городского округа в 2016 году</a:t>
            </a:r>
            <a:endParaRPr b="0" lang="en-US" sz="2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31" name="Rectangle 132"/>
          <p:cNvSpPr/>
          <p:nvPr/>
        </p:nvSpPr>
        <p:spPr>
          <a:xfrm>
            <a:off x="0" y="6620040"/>
            <a:ext cx="9144000" cy="2379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32" name="Rectangle 133"/>
          <p:cNvSpPr/>
          <p:nvPr/>
        </p:nvSpPr>
        <p:spPr>
          <a:xfrm>
            <a:off x="0" y="0"/>
            <a:ext cx="9144000" cy="54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201600"/>
            <a:ext cx="1257480" cy="822240"/>
          </a:xfrm>
          <a:prstGeom prst="rect">
            <a:avLst/>
          </a:prstGeom>
          <a:ln w="0">
            <a:noFill/>
          </a:ln>
        </p:spPr>
      </p:pic>
      <p:sp>
        <p:nvSpPr>
          <p:cNvPr id="134" name="TextShape 2"/>
          <p:cNvSpPr/>
          <p:nvPr/>
        </p:nvSpPr>
        <p:spPr>
          <a:xfrm>
            <a:off x="701028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77720"/>
            <a:ext cx="82296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637"/>
                </a:solidFill>
                <a:latin typeface="Book Antiqua"/>
                <a:ea typeface="Arial"/>
              </a:rPr>
              <a:t>ОАО АК «Рубин»</a:t>
            </a:r>
            <a:r>
              <a:rPr b="1" lang="ru-RU" sz="4400" spc="-1" strike="noStrike">
                <a:solidFill>
                  <a:srgbClr val="375637"/>
                </a:solidFill>
                <a:latin typeface="Book Antiqua"/>
                <a:ea typeface="Arial"/>
              </a:rPr>
              <a:t> </a:t>
            </a: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187200" y="1457280"/>
            <a:ext cx="43783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Авиационная Корпорация "Рубин"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75637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Основная деятельность:</a:t>
            </a:r>
            <a:r>
              <a:rPr b="1" lang="en-US" sz="1600" spc="-1" strike="noStrike">
                <a:solidFill>
                  <a:srgbClr val="37563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разработка, производство и ремонт</a:t>
            </a:r>
            <a:r>
              <a:rPr b="0" lang="en-US" sz="1600" spc="-1" strike="noStrike">
                <a:solidFill>
                  <a:srgbClr val="375637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изделий взлетно-посадочных устройств (ВПУ) и гидроагрегатов для отечественных летательных аппаратов. 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75637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5637"/>
                </a:solidFill>
                <a:latin typeface="Arial"/>
              </a:rPr>
              <a:t>Основная продукция: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marL="343080" indent="-343080" algn="just"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Взлетно-посадочные устройства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marL="343080" indent="-343080" algn="just"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Гидравлические авиационные системы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marL="343080" indent="-343080" algn="just">
              <a:buClr>
                <a:srgbClr val="375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637"/>
                </a:solidFill>
                <a:latin typeface="Arial"/>
              </a:rPr>
              <a:t>Тормозные диски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137" name="Picture 2" descr="http://prv1.lori-images.net/balashiha-aviatsionnaya-korporatsiya-rubin-0002099645-preview.jpg"/>
          <p:cNvPicPr/>
          <p:nvPr/>
        </p:nvPicPr>
        <p:blipFill>
          <a:blip r:embed="rId1"/>
          <a:srcRect l="0" t="0" r="0" b="16962"/>
          <a:stretch/>
        </p:blipFill>
        <p:spPr>
          <a:xfrm>
            <a:off x="4748040" y="1522440"/>
            <a:ext cx="4108680" cy="25272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5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0" y="458640"/>
            <a:ext cx="1392120" cy="911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7"/>
          <p:cNvSpPr/>
          <p:nvPr/>
        </p:nvSpPr>
        <p:spPr>
          <a:xfrm>
            <a:off x="314280" y="4019400"/>
            <a:ext cx="857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236520" y="4597560"/>
            <a:ext cx="859140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5637"/>
                </a:solidFill>
                <a:latin typeface="Arial"/>
              </a:rPr>
              <a:t>Для новых разработок и модернизации уже созданных изделий на предприятии успешно функционируют два конструкторских бюро. </a:t>
            </a:r>
            <a:endParaRPr b="0" lang="en-US" sz="16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75637"/>
                </a:solidFill>
                <a:latin typeface="Arial"/>
              </a:rPr>
              <a:t>На сегодняшний день на предприятии трудятся 1 715 специалистов.</a:t>
            </a:r>
            <a:r>
              <a:rPr b="0" lang="en-US" sz="1800" spc="-1" strike="noStrike">
                <a:solidFill>
                  <a:srgbClr val="37563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43" name="Содержимое 10"/>
          <p:cNvSpPr/>
          <p:nvPr/>
        </p:nvSpPr>
        <p:spPr>
          <a:xfrm>
            <a:off x="184320" y="5832360"/>
            <a:ext cx="86868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Основано в 1946 году</a:t>
            </a:r>
            <a:endParaRPr b="0" lang="en-US" sz="20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44" name="Прямоугольник 19"/>
          <p:cNvSpPr/>
          <p:nvPr/>
        </p:nvSpPr>
        <p:spPr>
          <a:xfrm>
            <a:off x="2000160" y="5737320"/>
            <a:ext cx="6886800" cy="725400"/>
          </a:xfrm>
          <a:prstGeom prst="rect">
            <a:avLst/>
          </a:prstGeom>
          <a:solidFill>
            <a:srgbClr val="c1dbe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just">
              <a:lnSpc>
                <a:spcPct val="100000"/>
              </a:lnSpc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Оказание содействия в решении вопроса включения ОАО «АК «Рубин»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в перечень организаций, оказывающих </a:t>
            </a:r>
            <a:r>
              <a:rPr b="0" lang="ru-RU" sz="1400" spc="-1" strike="noStrike">
                <a:solidFill>
                  <a:srgbClr val="000000"/>
                </a:solidFill>
                <a:latin typeface="DejaVu Sans"/>
              </a:rPr>
              <a:t>существенное влияние на отрасли промышленности и торговли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45" name="Пятиугольник 20"/>
          <p:cNvSpPr/>
          <p:nvPr/>
        </p:nvSpPr>
        <p:spPr>
          <a:xfrm>
            <a:off x="314280" y="5737320"/>
            <a:ext cx="2095560" cy="72540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1" y="0"/>
                </a:lnTo>
                <a:lnTo>
                  <a:pt x="21600" y="10800"/>
                </a:lnTo>
                <a:lnTo>
                  <a:pt x="1786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казанное содействие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46" name="TextShape 2"/>
          <p:cNvSpPr/>
          <p:nvPr/>
        </p:nvSpPr>
        <p:spPr>
          <a:xfrm>
            <a:off x="701028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Shap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04560" y="609120"/>
            <a:ext cx="553428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637"/>
                </a:solidFill>
                <a:latin typeface="Book Antiqua"/>
                <a:ea typeface="Arial"/>
              </a:rPr>
              <a:t>ОАО АК «Рубин»</a:t>
            </a:r>
            <a:r>
              <a:rPr b="1" lang="ru-RU" sz="4400" spc="-1" strike="noStrike">
                <a:solidFill>
                  <a:srgbClr val="375637"/>
                </a:solidFill>
                <a:latin typeface="Book Antiqua"/>
                <a:ea typeface="Arial"/>
              </a:rPr>
              <a:t> </a:t>
            </a: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37960" y="1098360"/>
            <a:ext cx="750564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Проект: «Создание нового механического цеха»</a:t>
            </a:r>
            <a:endParaRPr b="0" lang="en-US" sz="20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254160" y="1430280"/>
            <a:ext cx="8605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Краткое описание проекта: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DejaVu Sans"/>
              </a:rPr>
              <a:t>Целью данного проекта является создание нового производственного цеха, его оснащение современным высокотехнологичным оборудованием для производства привод-генераторов переменного тока (ГП) и насосов плунжерных (НП), применяемых в авиационной и ракетно-космической технике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Срок реализации: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 2015-2017гг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0" y="554040"/>
            <a:ext cx="1352520" cy="88596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55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156" name="Picture 21" descr="IMG_0307"/>
          <p:cNvPicPr/>
          <p:nvPr/>
        </p:nvPicPr>
        <p:blipFill>
          <a:blip r:embed="rId3"/>
          <a:stretch/>
        </p:blipFill>
        <p:spPr>
          <a:xfrm>
            <a:off x="396720" y="3068640"/>
            <a:ext cx="4023000" cy="2550960"/>
          </a:xfrm>
          <a:prstGeom prst="rect">
            <a:avLst/>
          </a:prstGeom>
          <a:ln w="0">
            <a:noFill/>
          </a:ln>
        </p:spPr>
      </p:pic>
      <p:sp>
        <p:nvSpPr>
          <p:cNvPr id="157" name="Содержимое 10"/>
          <p:cNvSpPr/>
          <p:nvPr/>
        </p:nvSpPr>
        <p:spPr>
          <a:xfrm>
            <a:off x="184320" y="5832360"/>
            <a:ext cx="86868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Основано в 1946 году</a:t>
            </a:r>
            <a:endParaRPr b="0" lang="en-US" sz="20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58" name="Прямоугольник 16"/>
          <p:cNvSpPr/>
          <p:nvPr/>
        </p:nvSpPr>
        <p:spPr>
          <a:xfrm>
            <a:off x="2000160" y="5737320"/>
            <a:ext cx="6886800" cy="725400"/>
          </a:xfrm>
          <a:prstGeom prst="rect">
            <a:avLst/>
          </a:prstGeom>
          <a:solidFill>
            <a:srgbClr val="c1dbe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just">
              <a:lnSpc>
                <a:spcPct val="100000"/>
              </a:lnSpc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Оказание содействия в решении вопроса включения ОАО «АК «Рубин»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в перечень организаций, оказывающих </a:t>
            </a:r>
            <a:r>
              <a:rPr b="0" lang="ru-RU" sz="1400" spc="-1" strike="noStrike">
                <a:solidFill>
                  <a:srgbClr val="000000"/>
                </a:solidFill>
                <a:latin typeface="DejaVu Sans"/>
              </a:rPr>
              <a:t>существенное влияние на отрасли промышленности и торговли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59" name="Пятиугольник 17"/>
          <p:cNvSpPr/>
          <p:nvPr/>
        </p:nvSpPr>
        <p:spPr>
          <a:xfrm>
            <a:off x="396720" y="5737320"/>
            <a:ext cx="2013120" cy="725400"/>
          </a:xfrm>
          <a:custGeom>
            <a:avLst/>
            <a:gdLst>
              <a:gd name="textAreaLeft" fmla="*/ 0 w 2013120"/>
              <a:gd name="textAreaRight" fmla="*/ 2013480 w 201312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8" y="0"/>
                </a:lnTo>
                <a:lnTo>
                  <a:pt x="21600" y="10800"/>
                </a:lnTo>
                <a:lnTo>
                  <a:pt x="177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казанное содействие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60" name="TextShape 2"/>
          <p:cNvSpPr/>
          <p:nvPr/>
        </p:nvSpPr>
        <p:spPr>
          <a:xfrm>
            <a:off x="701028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2349360"/>
            <a:ext cx="41356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Инвестиции: план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 – 2,058 млрд. руб.; </a:t>
            </a: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освоено – 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356,09 млн. руб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75637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этап: 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Строительство здания цеха – до 28.08.2016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75637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этап: 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Монтаж инженерных сетей и коммуникаций – до 30.06.2016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375637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этап: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 Оснащение цеха оборудованием – до 31.12.2017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В настоящее время здание цеха возведено, ведутся работы по монтажу инженерных сетей </a:t>
            </a:r>
            <a:br>
              <a:rPr sz="1400"/>
            </a:b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и коммуникаций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Планируемый срок получения разрешения на ввод в эксплуатацию здания – август 2016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Особые условия: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 В рамках выполнения Указа Президента РФ по «Импортозамещению»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Shap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04560" y="609120"/>
            <a:ext cx="553428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637"/>
                </a:solidFill>
                <a:latin typeface="Book Antiqua"/>
                <a:ea typeface="Arial"/>
              </a:rPr>
              <a:t>ОАО АК «Рубин»</a:t>
            </a:r>
            <a:r>
              <a:rPr b="1" lang="ru-RU" sz="4400" spc="-1" strike="noStrike">
                <a:solidFill>
                  <a:srgbClr val="375637"/>
                </a:solidFill>
                <a:latin typeface="Book Antiqua"/>
                <a:ea typeface="Arial"/>
              </a:rPr>
              <a:t> </a:t>
            </a:r>
            <a:endParaRPr b="0" lang="en-US" sz="44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37960" y="1098360"/>
            <a:ext cx="750564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Проект: «Создание нового механического цеха»</a:t>
            </a:r>
            <a:endParaRPr b="0" lang="en-US" sz="2000" spc="-1" strike="noStrike">
              <a:solidFill>
                <a:srgbClr val="375637"/>
              </a:solidFill>
              <a:latin typeface="Calibri"/>
            </a:endParaRPr>
          </a:p>
        </p:txBody>
      </p:sp>
      <p:sp>
        <p:nvSpPr>
          <p:cNvPr id="165" name="TextBox 20"/>
          <p:cNvSpPr/>
          <p:nvPr/>
        </p:nvSpPr>
        <p:spPr>
          <a:xfrm>
            <a:off x="396720" y="1989000"/>
            <a:ext cx="84632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Социальная эффективность: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 Будет создано 150 рабочих мест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Средняя заработная плата: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 48 500 руб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Доли финансирования: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40% - собственные средства ОАО АК «Рубин» </a:t>
            </a:r>
            <a:br>
              <a:rPr sz="1400"/>
            </a:b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для строительства здания цеха;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60% - кредитные средства для закупки оборудования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Срок окупаемости: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Предполагаемый срок окупаемости проекта   </a:t>
            </a: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3,4 года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Земельный участок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 в собственности ОАО АК «Рубин»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Планируемый объем налоговых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375637"/>
                </a:solidFill>
                <a:latin typeface="Arial"/>
              </a:rPr>
              <a:t>отчислений:</a:t>
            </a: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 1165,4 млн. руб., в том числе: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В Федеральный бюджет – 536,7 млн. руб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637"/>
                </a:solidFill>
                <a:latin typeface="Arial"/>
              </a:rPr>
              <a:t>В бюджет Московской области – 628,7 млн. руб.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7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75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554040"/>
            <a:ext cx="1352520" cy="88596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70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71" name="Содержимое 10"/>
          <p:cNvSpPr/>
          <p:nvPr/>
        </p:nvSpPr>
        <p:spPr>
          <a:xfrm>
            <a:off x="184320" y="5832360"/>
            <a:ext cx="86868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5637"/>
                </a:solidFill>
                <a:latin typeface="Book Antiqua"/>
                <a:ea typeface="Arial"/>
              </a:rPr>
              <a:t>Основано в 1946 году</a:t>
            </a:r>
            <a:endParaRPr b="0" lang="en-US" sz="20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72" name="Прямоугольник 16"/>
          <p:cNvSpPr/>
          <p:nvPr/>
        </p:nvSpPr>
        <p:spPr>
          <a:xfrm>
            <a:off x="2000160" y="5737320"/>
            <a:ext cx="6886800" cy="725400"/>
          </a:xfrm>
          <a:prstGeom prst="rect">
            <a:avLst/>
          </a:prstGeom>
          <a:solidFill>
            <a:srgbClr val="c1dbe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just">
              <a:lnSpc>
                <a:spcPct val="100000"/>
              </a:lnSpc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Оказание содействия в решении вопроса включения ОАО «АК «Рубин»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DejaVu Sans"/>
                <a:ea typeface="Arial"/>
              </a:rPr>
              <a:t>в перечень организаций, оказывающих </a:t>
            </a:r>
            <a:r>
              <a:rPr b="0" lang="ru-RU" sz="1400" spc="-1" strike="noStrike">
                <a:solidFill>
                  <a:srgbClr val="000000"/>
                </a:solidFill>
                <a:latin typeface="DejaVu Sans"/>
              </a:rPr>
              <a:t>существенное влияние на отрасли промышленности и торговли</a:t>
            </a:r>
            <a:endParaRPr b="0" lang="en-US" sz="14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73" name="Пятиугольник 17"/>
          <p:cNvSpPr/>
          <p:nvPr/>
        </p:nvSpPr>
        <p:spPr>
          <a:xfrm>
            <a:off x="396720" y="5737320"/>
            <a:ext cx="2013120" cy="725400"/>
          </a:xfrm>
          <a:custGeom>
            <a:avLst/>
            <a:gdLst>
              <a:gd name="textAreaLeft" fmla="*/ 0 w 2013120"/>
              <a:gd name="textAreaRight" fmla="*/ 2013480 w 201312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08" y="0"/>
                </a:lnTo>
                <a:lnTo>
                  <a:pt x="21600" y="10800"/>
                </a:lnTo>
                <a:lnTo>
                  <a:pt x="1770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казанное содействие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  <p:sp>
        <p:nvSpPr>
          <p:cNvPr id="174" name="TextShape 2"/>
          <p:cNvSpPr/>
          <p:nvPr/>
        </p:nvSpPr>
        <p:spPr>
          <a:xfrm>
            <a:off x="7010280" y="6539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3756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ей В. Коршунов</dc:creator>
  <dc:description/>
  <dc:language>en-US</dc:language>
  <cp:lastModifiedBy>shimina</cp:lastModifiedBy>
  <cp:lastPrinted>2016-04-27T14:34:29Z</cp:lastPrinted>
  <dcterms:modified xsi:type="dcterms:W3CDTF">2016-06-09T14:57:48Z</dcterms:modified>
  <cp:revision>254</cp:revision>
  <dc:subject/>
  <dc:title>Презентация PowerPoint</dc:title>
</cp:coreProperties>
</file>